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907" descr="C:\Users\Agentur\Documents\_fl\Logo\hm12_logo_v1\HM12 WM Logo Office_v1\RGB\HM12_Logo_col.wmf"/>
          <p:cNvPicPr/>
          <p:nvPr/>
        </p:nvPicPr>
        <p:blipFill>
          <a:blip r:embed="rId1"/>
          <a:stretch/>
        </p:blipFill>
        <p:spPr>
          <a:xfrm>
            <a:off x="5651640" y="909720"/>
            <a:ext cx="2160360" cy="216036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905" descr="C:\Users\Agentur\Documents\_fl\Logo\hm12_logo_v1\HM12 WM Logo Office_v1\1c\HM12_Logo_1c.tif"/>
          <p:cNvPicPr/>
          <p:nvPr/>
        </p:nvPicPr>
        <p:blipFill>
          <a:blip r:embed="rId2"/>
          <a:stretch/>
        </p:blipFill>
        <p:spPr>
          <a:xfrm>
            <a:off x="1154160" y="4221000"/>
            <a:ext cx="2158920" cy="2159280"/>
          </a:xfrm>
          <a:prstGeom prst="rect">
            <a:avLst/>
          </a:prstGeom>
          <a:ln w="0">
            <a:noFill/>
          </a:ln>
        </p:spPr>
      </p:pic>
      <p:sp>
        <p:nvSpPr>
          <p:cNvPr id="39" name="Text Box 364"/>
          <p:cNvSpPr/>
          <p:nvPr/>
        </p:nvSpPr>
        <p:spPr>
          <a:xfrm>
            <a:off x="3297240" y="646200"/>
            <a:ext cx="984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TIFF (RGB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0" name="Text Box 365"/>
          <p:cNvSpPr/>
          <p:nvPr/>
        </p:nvSpPr>
        <p:spPr>
          <a:xfrm>
            <a:off x="8050320" y="641520"/>
            <a:ext cx="79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WMF (RGB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Text Box 366"/>
          <p:cNvSpPr/>
          <p:nvPr/>
        </p:nvSpPr>
        <p:spPr>
          <a:xfrm>
            <a:off x="6500880" y="3716280"/>
            <a:ext cx="2274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MS Office Drawing Object (RGB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Text Box 367"/>
          <p:cNvSpPr/>
          <p:nvPr/>
        </p:nvSpPr>
        <p:spPr>
          <a:xfrm>
            <a:off x="2909880" y="372096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TIFF (1c)</a:t>
            </a: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  <p:grpSp>
        <p:nvGrpSpPr>
          <p:cNvPr id="43" name="Group 911"/>
          <p:cNvGrpSpPr/>
          <p:nvPr/>
        </p:nvGrpSpPr>
        <p:grpSpPr>
          <a:xfrm>
            <a:off x="5651640" y="4219560"/>
            <a:ext cx="2160360" cy="2160720"/>
            <a:chOff x="5651640" y="4219560"/>
            <a:chExt cx="2160360" cy="2160720"/>
          </a:xfrm>
        </p:grpSpPr>
        <p:sp>
          <p:nvSpPr>
            <p:cNvPr id="44" name="AutoShape 910"/>
            <p:cNvSpPr/>
            <p:nvPr/>
          </p:nvSpPr>
          <p:spPr>
            <a:xfrm>
              <a:off x="5651640" y="4219560"/>
              <a:ext cx="2160360" cy="21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45" name="Rectangle 912"/>
            <p:cNvSpPr/>
            <p:nvPr/>
          </p:nvSpPr>
          <p:spPr>
            <a:xfrm>
              <a:off x="5651640" y="4219560"/>
              <a:ext cx="2160360" cy="2160720"/>
            </a:xfrm>
            <a:prstGeom prst="rect">
              <a:avLst/>
            </a:prstGeom>
            <a:solidFill>
              <a:srgbClr val="d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46" name="Freeform 913"/>
            <p:cNvSpPr/>
            <p:nvPr/>
          </p:nvSpPr>
          <p:spPr>
            <a:xfrm>
              <a:off x="6470640" y="4662360"/>
              <a:ext cx="528480" cy="71604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716040"/>
                <a:gd name="textAreaBottom" fmla="*/ 716400 h 716040"/>
              </a:gdLst>
              <a:ahLst/>
              <a:rect l="textAreaLeft" t="textAreaTop" r="textAreaRight" b="textAreaBottom"/>
              <a:pathLst>
                <a:path w="3992" h="5419">
                  <a:moveTo>
                    <a:pt x="3663" y="1023"/>
                  </a:moveTo>
                  <a:lnTo>
                    <a:pt x="3611" y="1022"/>
                  </a:lnTo>
                  <a:lnTo>
                    <a:pt x="3558" y="1020"/>
                  </a:lnTo>
                  <a:lnTo>
                    <a:pt x="3506" y="1017"/>
                  </a:lnTo>
                  <a:lnTo>
                    <a:pt x="3455" y="1013"/>
                  </a:lnTo>
                  <a:lnTo>
                    <a:pt x="3404" y="1007"/>
                  </a:lnTo>
                  <a:lnTo>
                    <a:pt x="3354" y="1001"/>
                  </a:lnTo>
                  <a:lnTo>
                    <a:pt x="3304" y="994"/>
                  </a:lnTo>
                  <a:lnTo>
                    <a:pt x="3254" y="987"/>
                  </a:lnTo>
                  <a:lnTo>
                    <a:pt x="3205" y="978"/>
                  </a:lnTo>
                  <a:lnTo>
                    <a:pt x="3156" y="970"/>
                  </a:lnTo>
                  <a:lnTo>
                    <a:pt x="3108" y="959"/>
                  </a:lnTo>
                  <a:lnTo>
                    <a:pt x="3059" y="950"/>
                  </a:lnTo>
                  <a:lnTo>
                    <a:pt x="2964" y="929"/>
                  </a:lnTo>
                  <a:lnTo>
                    <a:pt x="2871" y="907"/>
                  </a:lnTo>
                  <a:lnTo>
                    <a:pt x="2778" y="886"/>
                  </a:lnTo>
                  <a:lnTo>
                    <a:pt x="2688" y="866"/>
                  </a:lnTo>
                  <a:lnTo>
                    <a:pt x="2598" y="846"/>
                  </a:lnTo>
                  <a:lnTo>
                    <a:pt x="2509" y="829"/>
                  </a:lnTo>
                  <a:lnTo>
                    <a:pt x="2465" y="822"/>
                  </a:lnTo>
                  <a:lnTo>
                    <a:pt x="2421" y="815"/>
                  </a:lnTo>
                  <a:lnTo>
                    <a:pt x="2377" y="808"/>
                  </a:lnTo>
                  <a:lnTo>
                    <a:pt x="2334" y="803"/>
                  </a:lnTo>
                  <a:lnTo>
                    <a:pt x="2292" y="799"/>
                  </a:lnTo>
                  <a:lnTo>
                    <a:pt x="2249" y="796"/>
                  </a:lnTo>
                  <a:lnTo>
                    <a:pt x="2206" y="794"/>
                  </a:lnTo>
                  <a:lnTo>
                    <a:pt x="2163" y="793"/>
                  </a:lnTo>
                  <a:lnTo>
                    <a:pt x="2132" y="794"/>
                  </a:lnTo>
                  <a:lnTo>
                    <a:pt x="2103" y="796"/>
                  </a:lnTo>
                  <a:lnTo>
                    <a:pt x="2073" y="799"/>
                  </a:lnTo>
                  <a:lnTo>
                    <a:pt x="2045" y="804"/>
                  </a:lnTo>
                  <a:lnTo>
                    <a:pt x="2016" y="810"/>
                  </a:lnTo>
                  <a:lnTo>
                    <a:pt x="1988" y="818"/>
                  </a:lnTo>
                  <a:lnTo>
                    <a:pt x="1962" y="827"/>
                  </a:lnTo>
                  <a:lnTo>
                    <a:pt x="1935" y="836"/>
                  </a:lnTo>
                  <a:lnTo>
                    <a:pt x="1910" y="847"/>
                  </a:lnTo>
                  <a:lnTo>
                    <a:pt x="1885" y="859"/>
                  </a:lnTo>
                  <a:lnTo>
                    <a:pt x="1861" y="873"/>
                  </a:lnTo>
                  <a:lnTo>
                    <a:pt x="1838" y="887"/>
                  </a:lnTo>
                  <a:lnTo>
                    <a:pt x="1816" y="902"/>
                  </a:lnTo>
                  <a:lnTo>
                    <a:pt x="1794" y="918"/>
                  </a:lnTo>
                  <a:lnTo>
                    <a:pt x="1774" y="935"/>
                  </a:lnTo>
                  <a:lnTo>
                    <a:pt x="1755" y="953"/>
                  </a:lnTo>
                  <a:lnTo>
                    <a:pt x="1736" y="972"/>
                  </a:lnTo>
                  <a:lnTo>
                    <a:pt x="1719" y="991"/>
                  </a:lnTo>
                  <a:lnTo>
                    <a:pt x="1703" y="1012"/>
                  </a:lnTo>
                  <a:lnTo>
                    <a:pt x="1687" y="1033"/>
                  </a:lnTo>
                  <a:lnTo>
                    <a:pt x="1673" y="1055"/>
                  </a:lnTo>
                  <a:lnTo>
                    <a:pt x="1660" y="1078"/>
                  </a:lnTo>
                  <a:lnTo>
                    <a:pt x="1647" y="1100"/>
                  </a:lnTo>
                  <a:lnTo>
                    <a:pt x="1636" y="1125"/>
                  </a:lnTo>
                  <a:lnTo>
                    <a:pt x="1627" y="1148"/>
                  </a:lnTo>
                  <a:lnTo>
                    <a:pt x="1618" y="1174"/>
                  </a:lnTo>
                  <a:lnTo>
                    <a:pt x="1611" y="1198"/>
                  </a:lnTo>
                  <a:lnTo>
                    <a:pt x="1605" y="1225"/>
                  </a:lnTo>
                  <a:lnTo>
                    <a:pt x="1600" y="1250"/>
                  </a:lnTo>
                  <a:lnTo>
                    <a:pt x="1596" y="1277"/>
                  </a:lnTo>
                  <a:lnTo>
                    <a:pt x="1594" y="1304"/>
                  </a:lnTo>
                  <a:lnTo>
                    <a:pt x="1594" y="1331"/>
                  </a:lnTo>
                  <a:lnTo>
                    <a:pt x="1593" y="1355"/>
                  </a:lnTo>
                  <a:lnTo>
                    <a:pt x="1592" y="1376"/>
                  </a:lnTo>
                  <a:lnTo>
                    <a:pt x="1591" y="1397"/>
                  </a:lnTo>
                  <a:lnTo>
                    <a:pt x="1588" y="1416"/>
                  </a:lnTo>
                  <a:lnTo>
                    <a:pt x="1584" y="1434"/>
                  </a:lnTo>
                  <a:lnTo>
                    <a:pt x="1578" y="1450"/>
                  </a:lnTo>
                  <a:lnTo>
                    <a:pt x="1575" y="1459"/>
                  </a:lnTo>
                  <a:lnTo>
                    <a:pt x="1571" y="1466"/>
                  </a:lnTo>
                  <a:lnTo>
                    <a:pt x="1567" y="1473"/>
                  </a:lnTo>
                  <a:lnTo>
                    <a:pt x="1562" y="1479"/>
                  </a:lnTo>
                  <a:lnTo>
                    <a:pt x="1557" y="1485"/>
                  </a:lnTo>
                  <a:lnTo>
                    <a:pt x="1550" y="1491"/>
                  </a:lnTo>
                  <a:lnTo>
                    <a:pt x="1544" y="1496"/>
                  </a:lnTo>
                  <a:lnTo>
                    <a:pt x="1537" y="1502"/>
                  </a:lnTo>
                  <a:lnTo>
                    <a:pt x="1529" y="1507"/>
                  </a:lnTo>
                  <a:lnTo>
                    <a:pt x="1521" y="1511"/>
                  </a:lnTo>
                  <a:lnTo>
                    <a:pt x="1513" y="1515"/>
                  </a:lnTo>
                  <a:lnTo>
                    <a:pt x="1502" y="1518"/>
                  </a:lnTo>
                  <a:lnTo>
                    <a:pt x="1492" y="1521"/>
                  </a:lnTo>
                  <a:lnTo>
                    <a:pt x="1481" y="1524"/>
                  </a:lnTo>
                  <a:lnTo>
                    <a:pt x="1470" y="1526"/>
                  </a:lnTo>
                  <a:lnTo>
                    <a:pt x="1458" y="1528"/>
                  </a:lnTo>
                  <a:lnTo>
                    <a:pt x="1430" y="1531"/>
                  </a:lnTo>
                  <a:lnTo>
                    <a:pt x="1399" y="1531"/>
                  </a:lnTo>
                  <a:lnTo>
                    <a:pt x="702" y="1531"/>
                  </a:lnTo>
                  <a:lnTo>
                    <a:pt x="710" y="1468"/>
                  </a:lnTo>
                  <a:lnTo>
                    <a:pt x="721" y="1406"/>
                  </a:lnTo>
                  <a:lnTo>
                    <a:pt x="726" y="1375"/>
                  </a:lnTo>
                  <a:lnTo>
                    <a:pt x="732" y="1345"/>
                  </a:lnTo>
                  <a:lnTo>
                    <a:pt x="738" y="1316"/>
                  </a:lnTo>
                  <a:lnTo>
                    <a:pt x="745" y="1286"/>
                  </a:lnTo>
                  <a:lnTo>
                    <a:pt x="752" y="1258"/>
                  </a:lnTo>
                  <a:lnTo>
                    <a:pt x="759" y="1230"/>
                  </a:lnTo>
                  <a:lnTo>
                    <a:pt x="769" y="1201"/>
                  </a:lnTo>
                  <a:lnTo>
                    <a:pt x="777" y="1174"/>
                  </a:lnTo>
                  <a:lnTo>
                    <a:pt x="786" y="1147"/>
                  </a:lnTo>
                  <a:lnTo>
                    <a:pt x="796" y="1121"/>
                  </a:lnTo>
                  <a:lnTo>
                    <a:pt x="806" y="1094"/>
                  </a:lnTo>
                  <a:lnTo>
                    <a:pt x="818" y="1068"/>
                  </a:lnTo>
                  <a:lnTo>
                    <a:pt x="829" y="1042"/>
                  </a:lnTo>
                  <a:lnTo>
                    <a:pt x="841" y="1017"/>
                  </a:lnTo>
                  <a:lnTo>
                    <a:pt x="854" y="992"/>
                  </a:lnTo>
                  <a:lnTo>
                    <a:pt x="868" y="968"/>
                  </a:lnTo>
                  <a:lnTo>
                    <a:pt x="882" y="943"/>
                  </a:lnTo>
                  <a:lnTo>
                    <a:pt x="896" y="919"/>
                  </a:lnTo>
                  <a:lnTo>
                    <a:pt x="913" y="895"/>
                  </a:lnTo>
                  <a:lnTo>
                    <a:pt x="928" y="872"/>
                  </a:lnTo>
                  <a:lnTo>
                    <a:pt x="945" y="849"/>
                  </a:lnTo>
                  <a:lnTo>
                    <a:pt x="963" y="827"/>
                  </a:lnTo>
                  <a:lnTo>
                    <a:pt x="982" y="804"/>
                  </a:lnTo>
                  <a:lnTo>
                    <a:pt x="1000" y="782"/>
                  </a:lnTo>
                  <a:lnTo>
                    <a:pt x="1021" y="759"/>
                  </a:lnTo>
                  <a:lnTo>
                    <a:pt x="1041" y="738"/>
                  </a:lnTo>
                  <a:lnTo>
                    <a:pt x="1064" y="717"/>
                  </a:lnTo>
                  <a:lnTo>
                    <a:pt x="1086" y="696"/>
                  </a:lnTo>
                  <a:lnTo>
                    <a:pt x="1111" y="674"/>
                  </a:lnTo>
                  <a:lnTo>
                    <a:pt x="1136" y="652"/>
                  </a:lnTo>
                  <a:lnTo>
                    <a:pt x="1163" y="632"/>
                  </a:lnTo>
                  <a:lnTo>
                    <a:pt x="1189" y="611"/>
                  </a:lnTo>
                  <a:lnTo>
                    <a:pt x="1216" y="593"/>
                  </a:lnTo>
                  <a:lnTo>
                    <a:pt x="1242" y="575"/>
                  </a:lnTo>
                  <a:lnTo>
                    <a:pt x="1270" y="556"/>
                  </a:lnTo>
                  <a:lnTo>
                    <a:pt x="1297" y="540"/>
                  </a:lnTo>
                  <a:lnTo>
                    <a:pt x="1325" y="524"/>
                  </a:lnTo>
                  <a:lnTo>
                    <a:pt x="1352" y="507"/>
                  </a:lnTo>
                  <a:lnTo>
                    <a:pt x="1381" y="493"/>
                  </a:lnTo>
                  <a:lnTo>
                    <a:pt x="1410" y="479"/>
                  </a:lnTo>
                  <a:lnTo>
                    <a:pt x="1439" y="465"/>
                  </a:lnTo>
                  <a:lnTo>
                    <a:pt x="1468" y="453"/>
                  </a:lnTo>
                  <a:lnTo>
                    <a:pt x="1497" y="441"/>
                  </a:lnTo>
                  <a:lnTo>
                    <a:pt x="1527" y="430"/>
                  </a:lnTo>
                  <a:lnTo>
                    <a:pt x="1557" y="420"/>
                  </a:lnTo>
                  <a:lnTo>
                    <a:pt x="1586" y="409"/>
                  </a:lnTo>
                  <a:lnTo>
                    <a:pt x="1616" y="400"/>
                  </a:lnTo>
                  <a:lnTo>
                    <a:pt x="1646" y="392"/>
                  </a:lnTo>
                  <a:lnTo>
                    <a:pt x="1676" y="384"/>
                  </a:lnTo>
                  <a:lnTo>
                    <a:pt x="1707" y="377"/>
                  </a:lnTo>
                  <a:lnTo>
                    <a:pt x="1736" y="371"/>
                  </a:lnTo>
                  <a:lnTo>
                    <a:pt x="1767" y="365"/>
                  </a:lnTo>
                  <a:lnTo>
                    <a:pt x="1797" y="360"/>
                  </a:lnTo>
                  <a:lnTo>
                    <a:pt x="1828" y="355"/>
                  </a:lnTo>
                  <a:lnTo>
                    <a:pt x="1859" y="352"/>
                  </a:lnTo>
                  <a:lnTo>
                    <a:pt x="1889" y="349"/>
                  </a:lnTo>
                  <a:lnTo>
                    <a:pt x="1920" y="347"/>
                  </a:lnTo>
                  <a:lnTo>
                    <a:pt x="1951" y="345"/>
                  </a:lnTo>
                  <a:lnTo>
                    <a:pt x="1981" y="344"/>
                  </a:lnTo>
                  <a:lnTo>
                    <a:pt x="2012" y="344"/>
                  </a:lnTo>
                  <a:lnTo>
                    <a:pt x="2080" y="345"/>
                  </a:lnTo>
                  <a:lnTo>
                    <a:pt x="2148" y="349"/>
                  </a:lnTo>
                  <a:lnTo>
                    <a:pt x="2214" y="356"/>
                  </a:lnTo>
                  <a:lnTo>
                    <a:pt x="2280" y="365"/>
                  </a:lnTo>
                  <a:lnTo>
                    <a:pt x="2345" y="377"/>
                  </a:lnTo>
                  <a:lnTo>
                    <a:pt x="2410" y="390"/>
                  </a:lnTo>
                  <a:lnTo>
                    <a:pt x="2473" y="405"/>
                  </a:lnTo>
                  <a:lnTo>
                    <a:pt x="2537" y="423"/>
                  </a:lnTo>
                  <a:lnTo>
                    <a:pt x="2599" y="441"/>
                  </a:lnTo>
                  <a:lnTo>
                    <a:pt x="2660" y="460"/>
                  </a:lnTo>
                  <a:lnTo>
                    <a:pt x="2721" y="482"/>
                  </a:lnTo>
                  <a:lnTo>
                    <a:pt x="2783" y="503"/>
                  </a:lnTo>
                  <a:lnTo>
                    <a:pt x="2902" y="548"/>
                  </a:lnTo>
                  <a:lnTo>
                    <a:pt x="3020" y="595"/>
                  </a:lnTo>
                  <a:lnTo>
                    <a:pt x="3138" y="642"/>
                  </a:lnTo>
                  <a:lnTo>
                    <a:pt x="3254" y="688"/>
                  </a:lnTo>
                  <a:lnTo>
                    <a:pt x="3312" y="709"/>
                  </a:lnTo>
                  <a:lnTo>
                    <a:pt x="3369" y="731"/>
                  </a:lnTo>
                  <a:lnTo>
                    <a:pt x="3428" y="750"/>
                  </a:lnTo>
                  <a:lnTo>
                    <a:pt x="3485" y="769"/>
                  </a:lnTo>
                  <a:lnTo>
                    <a:pt x="3543" y="785"/>
                  </a:lnTo>
                  <a:lnTo>
                    <a:pt x="3600" y="800"/>
                  </a:lnTo>
                  <a:lnTo>
                    <a:pt x="3658" y="815"/>
                  </a:lnTo>
                  <a:lnTo>
                    <a:pt x="3715" y="826"/>
                  </a:lnTo>
                  <a:lnTo>
                    <a:pt x="3774" y="835"/>
                  </a:lnTo>
                  <a:lnTo>
                    <a:pt x="3832" y="841"/>
                  </a:lnTo>
                  <a:lnTo>
                    <a:pt x="3890" y="846"/>
                  </a:lnTo>
                  <a:lnTo>
                    <a:pt x="3948" y="847"/>
                  </a:lnTo>
                  <a:lnTo>
                    <a:pt x="3948" y="496"/>
                  </a:lnTo>
                  <a:lnTo>
                    <a:pt x="3898" y="494"/>
                  </a:lnTo>
                  <a:lnTo>
                    <a:pt x="3846" y="490"/>
                  </a:lnTo>
                  <a:lnTo>
                    <a:pt x="3795" y="484"/>
                  </a:lnTo>
                  <a:lnTo>
                    <a:pt x="3743" y="475"/>
                  </a:lnTo>
                  <a:lnTo>
                    <a:pt x="3691" y="463"/>
                  </a:lnTo>
                  <a:lnTo>
                    <a:pt x="3638" y="450"/>
                  </a:lnTo>
                  <a:lnTo>
                    <a:pt x="3585" y="435"/>
                  </a:lnTo>
                  <a:lnTo>
                    <a:pt x="3531" y="418"/>
                  </a:lnTo>
                  <a:lnTo>
                    <a:pt x="3476" y="400"/>
                  </a:lnTo>
                  <a:lnTo>
                    <a:pt x="3420" y="381"/>
                  </a:lnTo>
                  <a:lnTo>
                    <a:pt x="3365" y="360"/>
                  </a:lnTo>
                  <a:lnTo>
                    <a:pt x="3309" y="339"/>
                  </a:lnTo>
                  <a:lnTo>
                    <a:pt x="3194" y="294"/>
                  </a:lnTo>
                  <a:lnTo>
                    <a:pt x="3076" y="248"/>
                  </a:lnTo>
                  <a:lnTo>
                    <a:pt x="3016" y="225"/>
                  </a:lnTo>
                  <a:lnTo>
                    <a:pt x="2956" y="201"/>
                  </a:lnTo>
                  <a:lnTo>
                    <a:pt x="2895" y="179"/>
                  </a:lnTo>
                  <a:lnTo>
                    <a:pt x="2833" y="156"/>
                  </a:lnTo>
                  <a:lnTo>
                    <a:pt x="2769" y="135"/>
                  </a:lnTo>
                  <a:lnTo>
                    <a:pt x="2705" y="114"/>
                  </a:lnTo>
                  <a:lnTo>
                    <a:pt x="2641" y="95"/>
                  </a:lnTo>
                  <a:lnTo>
                    <a:pt x="2574" y="78"/>
                  </a:lnTo>
                  <a:lnTo>
                    <a:pt x="2508" y="60"/>
                  </a:lnTo>
                  <a:lnTo>
                    <a:pt x="2440" y="45"/>
                  </a:lnTo>
                  <a:lnTo>
                    <a:pt x="2371" y="32"/>
                  </a:lnTo>
                  <a:lnTo>
                    <a:pt x="2302" y="20"/>
                  </a:lnTo>
                  <a:lnTo>
                    <a:pt x="2230" y="12"/>
                  </a:lnTo>
                  <a:lnTo>
                    <a:pt x="2159" y="5"/>
                  </a:lnTo>
                  <a:lnTo>
                    <a:pt x="2085" y="1"/>
                  </a:lnTo>
                  <a:lnTo>
                    <a:pt x="2012" y="0"/>
                  </a:lnTo>
                  <a:lnTo>
                    <a:pt x="1971" y="0"/>
                  </a:lnTo>
                  <a:lnTo>
                    <a:pt x="1930" y="1"/>
                  </a:lnTo>
                  <a:lnTo>
                    <a:pt x="1890" y="3"/>
                  </a:lnTo>
                  <a:lnTo>
                    <a:pt x="1851" y="6"/>
                  </a:lnTo>
                  <a:lnTo>
                    <a:pt x="1811" y="10"/>
                  </a:lnTo>
                  <a:lnTo>
                    <a:pt x="1771" y="14"/>
                  </a:lnTo>
                  <a:lnTo>
                    <a:pt x="1732" y="20"/>
                  </a:lnTo>
                  <a:lnTo>
                    <a:pt x="1692" y="27"/>
                  </a:lnTo>
                  <a:lnTo>
                    <a:pt x="1654" y="34"/>
                  </a:lnTo>
                  <a:lnTo>
                    <a:pt x="1615" y="42"/>
                  </a:lnTo>
                  <a:lnTo>
                    <a:pt x="1576" y="50"/>
                  </a:lnTo>
                  <a:lnTo>
                    <a:pt x="1538" y="60"/>
                  </a:lnTo>
                  <a:lnTo>
                    <a:pt x="1500" y="70"/>
                  </a:lnTo>
                  <a:lnTo>
                    <a:pt x="1463" y="83"/>
                  </a:lnTo>
                  <a:lnTo>
                    <a:pt x="1425" y="95"/>
                  </a:lnTo>
                  <a:lnTo>
                    <a:pt x="1387" y="108"/>
                  </a:lnTo>
                  <a:lnTo>
                    <a:pt x="1350" y="122"/>
                  </a:lnTo>
                  <a:lnTo>
                    <a:pt x="1314" y="137"/>
                  </a:lnTo>
                  <a:lnTo>
                    <a:pt x="1277" y="153"/>
                  </a:lnTo>
                  <a:lnTo>
                    <a:pt x="1241" y="169"/>
                  </a:lnTo>
                  <a:lnTo>
                    <a:pt x="1205" y="188"/>
                  </a:lnTo>
                  <a:lnTo>
                    <a:pt x="1170" y="206"/>
                  </a:lnTo>
                  <a:lnTo>
                    <a:pt x="1135" y="226"/>
                  </a:lnTo>
                  <a:lnTo>
                    <a:pt x="1100" y="246"/>
                  </a:lnTo>
                  <a:lnTo>
                    <a:pt x="1066" y="267"/>
                  </a:lnTo>
                  <a:lnTo>
                    <a:pt x="1032" y="290"/>
                  </a:lnTo>
                  <a:lnTo>
                    <a:pt x="998" y="313"/>
                  </a:lnTo>
                  <a:lnTo>
                    <a:pt x="966" y="338"/>
                  </a:lnTo>
                  <a:lnTo>
                    <a:pt x="932" y="362"/>
                  </a:lnTo>
                  <a:lnTo>
                    <a:pt x="900" y="389"/>
                  </a:lnTo>
                  <a:lnTo>
                    <a:pt x="868" y="415"/>
                  </a:lnTo>
                  <a:lnTo>
                    <a:pt x="836" y="444"/>
                  </a:lnTo>
                  <a:lnTo>
                    <a:pt x="801" y="476"/>
                  </a:lnTo>
                  <a:lnTo>
                    <a:pt x="769" y="508"/>
                  </a:lnTo>
                  <a:lnTo>
                    <a:pt x="737" y="542"/>
                  </a:lnTo>
                  <a:lnTo>
                    <a:pt x="707" y="576"/>
                  </a:lnTo>
                  <a:lnTo>
                    <a:pt x="679" y="609"/>
                  </a:lnTo>
                  <a:lnTo>
                    <a:pt x="651" y="643"/>
                  </a:lnTo>
                  <a:lnTo>
                    <a:pt x="626" y="677"/>
                  </a:lnTo>
                  <a:lnTo>
                    <a:pt x="601" y="711"/>
                  </a:lnTo>
                  <a:lnTo>
                    <a:pt x="579" y="746"/>
                  </a:lnTo>
                  <a:lnTo>
                    <a:pt x="557" y="781"/>
                  </a:lnTo>
                  <a:lnTo>
                    <a:pt x="537" y="816"/>
                  </a:lnTo>
                  <a:lnTo>
                    <a:pt x="517" y="851"/>
                  </a:lnTo>
                  <a:lnTo>
                    <a:pt x="500" y="886"/>
                  </a:lnTo>
                  <a:lnTo>
                    <a:pt x="483" y="921"/>
                  </a:lnTo>
                  <a:lnTo>
                    <a:pt x="467" y="956"/>
                  </a:lnTo>
                  <a:lnTo>
                    <a:pt x="453" y="991"/>
                  </a:lnTo>
                  <a:lnTo>
                    <a:pt x="439" y="1027"/>
                  </a:lnTo>
                  <a:lnTo>
                    <a:pt x="427" y="1062"/>
                  </a:lnTo>
                  <a:lnTo>
                    <a:pt x="415" y="1096"/>
                  </a:lnTo>
                  <a:lnTo>
                    <a:pt x="404" y="1131"/>
                  </a:lnTo>
                  <a:lnTo>
                    <a:pt x="394" y="1166"/>
                  </a:lnTo>
                  <a:lnTo>
                    <a:pt x="385" y="1200"/>
                  </a:lnTo>
                  <a:lnTo>
                    <a:pt x="377" y="1235"/>
                  </a:lnTo>
                  <a:lnTo>
                    <a:pt x="368" y="1269"/>
                  </a:lnTo>
                  <a:lnTo>
                    <a:pt x="362" y="1303"/>
                  </a:lnTo>
                  <a:lnTo>
                    <a:pt x="355" y="1337"/>
                  </a:lnTo>
                  <a:lnTo>
                    <a:pt x="350" y="1370"/>
                  </a:lnTo>
                  <a:lnTo>
                    <a:pt x="344" y="1404"/>
                  </a:lnTo>
                  <a:lnTo>
                    <a:pt x="336" y="1468"/>
                  </a:lnTo>
                  <a:lnTo>
                    <a:pt x="329" y="1531"/>
                  </a:lnTo>
                  <a:lnTo>
                    <a:pt x="0" y="1531"/>
                  </a:lnTo>
                  <a:lnTo>
                    <a:pt x="0" y="1889"/>
                  </a:lnTo>
                  <a:lnTo>
                    <a:pt x="300" y="1889"/>
                  </a:lnTo>
                  <a:lnTo>
                    <a:pt x="296" y="1960"/>
                  </a:lnTo>
                  <a:lnTo>
                    <a:pt x="291" y="2030"/>
                  </a:lnTo>
                  <a:lnTo>
                    <a:pt x="286" y="2101"/>
                  </a:lnTo>
                  <a:lnTo>
                    <a:pt x="281" y="2171"/>
                  </a:lnTo>
                  <a:lnTo>
                    <a:pt x="276" y="2241"/>
                  </a:lnTo>
                  <a:lnTo>
                    <a:pt x="270" y="2311"/>
                  </a:lnTo>
                  <a:lnTo>
                    <a:pt x="265" y="2381"/>
                  </a:lnTo>
                  <a:lnTo>
                    <a:pt x="260" y="2452"/>
                  </a:lnTo>
                  <a:lnTo>
                    <a:pt x="255" y="2522"/>
                  </a:lnTo>
                  <a:lnTo>
                    <a:pt x="250" y="2593"/>
                  </a:lnTo>
                  <a:lnTo>
                    <a:pt x="244" y="2663"/>
                  </a:lnTo>
                  <a:lnTo>
                    <a:pt x="239" y="2734"/>
                  </a:lnTo>
                  <a:lnTo>
                    <a:pt x="234" y="2804"/>
                  </a:lnTo>
                  <a:lnTo>
                    <a:pt x="229" y="2873"/>
                  </a:lnTo>
                  <a:lnTo>
                    <a:pt x="223" y="2944"/>
                  </a:lnTo>
                  <a:lnTo>
                    <a:pt x="218" y="3014"/>
                  </a:lnTo>
                  <a:lnTo>
                    <a:pt x="624" y="3014"/>
                  </a:lnTo>
                  <a:lnTo>
                    <a:pt x="624" y="3312"/>
                  </a:lnTo>
                  <a:lnTo>
                    <a:pt x="694" y="3331"/>
                  </a:lnTo>
                  <a:lnTo>
                    <a:pt x="771" y="3352"/>
                  </a:lnTo>
                  <a:lnTo>
                    <a:pt x="810" y="3364"/>
                  </a:lnTo>
                  <a:lnTo>
                    <a:pt x="850" y="3378"/>
                  </a:lnTo>
                  <a:lnTo>
                    <a:pt x="870" y="3385"/>
                  </a:lnTo>
                  <a:lnTo>
                    <a:pt x="889" y="3393"/>
                  </a:lnTo>
                  <a:lnTo>
                    <a:pt x="907" y="3401"/>
                  </a:lnTo>
                  <a:lnTo>
                    <a:pt x="927" y="3409"/>
                  </a:lnTo>
                  <a:lnTo>
                    <a:pt x="944" y="3418"/>
                  </a:lnTo>
                  <a:lnTo>
                    <a:pt x="961" y="3428"/>
                  </a:lnTo>
                  <a:lnTo>
                    <a:pt x="979" y="3438"/>
                  </a:lnTo>
                  <a:lnTo>
                    <a:pt x="995" y="3448"/>
                  </a:lnTo>
                  <a:lnTo>
                    <a:pt x="1009" y="3459"/>
                  </a:lnTo>
                  <a:lnTo>
                    <a:pt x="1025" y="3471"/>
                  </a:lnTo>
                  <a:lnTo>
                    <a:pt x="1038" y="3483"/>
                  </a:lnTo>
                  <a:lnTo>
                    <a:pt x="1050" y="3495"/>
                  </a:lnTo>
                  <a:lnTo>
                    <a:pt x="1062" y="3508"/>
                  </a:lnTo>
                  <a:lnTo>
                    <a:pt x="1071" y="3523"/>
                  </a:lnTo>
                  <a:lnTo>
                    <a:pt x="1080" y="3537"/>
                  </a:lnTo>
                  <a:lnTo>
                    <a:pt x="1087" y="3552"/>
                  </a:lnTo>
                  <a:lnTo>
                    <a:pt x="1092" y="3569"/>
                  </a:lnTo>
                  <a:lnTo>
                    <a:pt x="1097" y="3585"/>
                  </a:lnTo>
                  <a:lnTo>
                    <a:pt x="1099" y="3602"/>
                  </a:lnTo>
                  <a:lnTo>
                    <a:pt x="1100" y="3620"/>
                  </a:lnTo>
                  <a:lnTo>
                    <a:pt x="1099" y="3637"/>
                  </a:lnTo>
                  <a:lnTo>
                    <a:pt x="1097" y="3653"/>
                  </a:lnTo>
                  <a:lnTo>
                    <a:pt x="1092" y="3669"/>
                  </a:lnTo>
                  <a:lnTo>
                    <a:pt x="1087" y="3683"/>
                  </a:lnTo>
                  <a:lnTo>
                    <a:pt x="1080" y="3697"/>
                  </a:lnTo>
                  <a:lnTo>
                    <a:pt x="1071" y="3711"/>
                  </a:lnTo>
                  <a:lnTo>
                    <a:pt x="1061" y="3725"/>
                  </a:lnTo>
                  <a:lnTo>
                    <a:pt x="1050" y="3737"/>
                  </a:lnTo>
                  <a:lnTo>
                    <a:pt x="1037" y="3749"/>
                  </a:lnTo>
                  <a:lnTo>
                    <a:pt x="1024" y="3760"/>
                  </a:lnTo>
                  <a:lnTo>
                    <a:pt x="1009" y="3772"/>
                  </a:lnTo>
                  <a:lnTo>
                    <a:pt x="994" y="3782"/>
                  </a:lnTo>
                  <a:lnTo>
                    <a:pt x="979" y="3792"/>
                  </a:lnTo>
                  <a:lnTo>
                    <a:pt x="961" y="3801"/>
                  </a:lnTo>
                  <a:lnTo>
                    <a:pt x="944" y="3810"/>
                  </a:lnTo>
                  <a:lnTo>
                    <a:pt x="926" y="3820"/>
                  </a:lnTo>
                  <a:lnTo>
                    <a:pt x="907" y="3828"/>
                  </a:lnTo>
                  <a:lnTo>
                    <a:pt x="889" y="3835"/>
                  </a:lnTo>
                  <a:lnTo>
                    <a:pt x="870" y="3842"/>
                  </a:lnTo>
                  <a:lnTo>
                    <a:pt x="849" y="3849"/>
                  </a:lnTo>
                  <a:lnTo>
                    <a:pt x="810" y="3862"/>
                  </a:lnTo>
                  <a:lnTo>
                    <a:pt x="771" y="3874"/>
                  </a:lnTo>
                  <a:lnTo>
                    <a:pt x="732" y="3884"/>
                  </a:lnTo>
                  <a:lnTo>
                    <a:pt x="693" y="3892"/>
                  </a:lnTo>
                  <a:lnTo>
                    <a:pt x="657" y="3899"/>
                  </a:lnTo>
                  <a:lnTo>
                    <a:pt x="624" y="3906"/>
                  </a:lnTo>
                  <a:lnTo>
                    <a:pt x="624" y="4851"/>
                  </a:lnTo>
                  <a:lnTo>
                    <a:pt x="698" y="4869"/>
                  </a:lnTo>
                  <a:lnTo>
                    <a:pt x="767" y="4886"/>
                  </a:lnTo>
                  <a:lnTo>
                    <a:pt x="801" y="4893"/>
                  </a:lnTo>
                  <a:lnTo>
                    <a:pt x="835" y="4901"/>
                  </a:lnTo>
                  <a:lnTo>
                    <a:pt x="869" y="4908"/>
                  </a:lnTo>
                  <a:lnTo>
                    <a:pt x="904" y="4913"/>
                  </a:lnTo>
                  <a:lnTo>
                    <a:pt x="940" y="4918"/>
                  </a:lnTo>
                  <a:lnTo>
                    <a:pt x="977" y="4923"/>
                  </a:lnTo>
                  <a:lnTo>
                    <a:pt x="1017" y="4926"/>
                  </a:lnTo>
                  <a:lnTo>
                    <a:pt x="1057" y="4930"/>
                  </a:lnTo>
                  <a:lnTo>
                    <a:pt x="1100" y="4932"/>
                  </a:lnTo>
                  <a:lnTo>
                    <a:pt x="1147" y="4934"/>
                  </a:lnTo>
                  <a:lnTo>
                    <a:pt x="1196" y="4935"/>
                  </a:lnTo>
                  <a:lnTo>
                    <a:pt x="1249" y="4935"/>
                  </a:lnTo>
                  <a:lnTo>
                    <a:pt x="1289" y="4934"/>
                  </a:lnTo>
                  <a:lnTo>
                    <a:pt x="1331" y="4933"/>
                  </a:lnTo>
                  <a:lnTo>
                    <a:pt x="1375" y="4930"/>
                  </a:lnTo>
                  <a:lnTo>
                    <a:pt x="1418" y="4926"/>
                  </a:lnTo>
                  <a:lnTo>
                    <a:pt x="1460" y="4921"/>
                  </a:lnTo>
                  <a:lnTo>
                    <a:pt x="1499" y="4916"/>
                  </a:lnTo>
                  <a:lnTo>
                    <a:pt x="1537" y="4910"/>
                  </a:lnTo>
                  <a:lnTo>
                    <a:pt x="1571" y="4904"/>
                  </a:lnTo>
                  <a:lnTo>
                    <a:pt x="1571" y="5419"/>
                  </a:lnTo>
                  <a:lnTo>
                    <a:pt x="1943" y="5419"/>
                  </a:lnTo>
                  <a:lnTo>
                    <a:pt x="1943" y="4438"/>
                  </a:lnTo>
                  <a:lnTo>
                    <a:pt x="1915" y="4454"/>
                  </a:lnTo>
                  <a:lnTo>
                    <a:pt x="1883" y="4469"/>
                  </a:lnTo>
                  <a:lnTo>
                    <a:pt x="1849" y="4482"/>
                  </a:lnTo>
                  <a:lnTo>
                    <a:pt x="1812" y="4495"/>
                  </a:lnTo>
                  <a:lnTo>
                    <a:pt x="1773" y="4508"/>
                  </a:lnTo>
                  <a:lnTo>
                    <a:pt x="1732" y="4519"/>
                  </a:lnTo>
                  <a:lnTo>
                    <a:pt x="1690" y="4530"/>
                  </a:lnTo>
                  <a:lnTo>
                    <a:pt x="1646" y="4539"/>
                  </a:lnTo>
                  <a:lnTo>
                    <a:pt x="1602" y="4547"/>
                  </a:lnTo>
                  <a:lnTo>
                    <a:pt x="1557" y="4556"/>
                  </a:lnTo>
                  <a:lnTo>
                    <a:pt x="1510" y="4562"/>
                  </a:lnTo>
                  <a:lnTo>
                    <a:pt x="1463" y="4568"/>
                  </a:lnTo>
                  <a:lnTo>
                    <a:pt x="1416" y="4572"/>
                  </a:lnTo>
                  <a:lnTo>
                    <a:pt x="1369" y="4575"/>
                  </a:lnTo>
                  <a:lnTo>
                    <a:pt x="1322" y="4577"/>
                  </a:lnTo>
                  <a:lnTo>
                    <a:pt x="1275" y="4578"/>
                  </a:lnTo>
                  <a:lnTo>
                    <a:pt x="1241" y="4577"/>
                  </a:lnTo>
                  <a:lnTo>
                    <a:pt x="1204" y="4576"/>
                  </a:lnTo>
                  <a:lnTo>
                    <a:pt x="1165" y="4574"/>
                  </a:lnTo>
                  <a:lnTo>
                    <a:pt x="1126" y="4572"/>
                  </a:lnTo>
                  <a:lnTo>
                    <a:pt x="1087" y="4569"/>
                  </a:lnTo>
                  <a:lnTo>
                    <a:pt x="1052" y="4565"/>
                  </a:lnTo>
                  <a:lnTo>
                    <a:pt x="1021" y="4560"/>
                  </a:lnTo>
                  <a:lnTo>
                    <a:pt x="996" y="4556"/>
                  </a:lnTo>
                  <a:lnTo>
                    <a:pt x="996" y="4151"/>
                  </a:lnTo>
                  <a:lnTo>
                    <a:pt x="1023" y="4142"/>
                  </a:lnTo>
                  <a:lnTo>
                    <a:pt x="1048" y="4133"/>
                  </a:lnTo>
                  <a:lnTo>
                    <a:pt x="1073" y="4124"/>
                  </a:lnTo>
                  <a:lnTo>
                    <a:pt x="1097" y="4114"/>
                  </a:lnTo>
                  <a:lnTo>
                    <a:pt x="1122" y="4102"/>
                  </a:lnTo>
                  <a:lnTo>
                    <a:pt x="1145" y="4091"/>
                  </a:lnTo>
                  <a:lnTo>
                    <a:pt x="1168" y="4080"/>
                  </a:lnTo>
                  <a:lnTo>
                    <a:pt x="1190" y="4068"/>
                  </a:lnTo>
                  <a:lnTo>
                    <a:pt x="1212" y="4055"/>
                  </a:lnTo>
                  <a:lnTo>
                    <a:pt x="1233" y="4042"/>
                  </a:lnTo>
                  <a:lnTo>
                    <a:pt x="1252" y="4029"/>
                  </a:lnTo>
                  <a:lnTo>
                    <a:pt x="1273" y="4015"/>
                  </a:lnTo>
                  <a:lnTo>
                    <a:pt x="1291" y="3999"/>
                  </a:lnTo>
                  <a:lnTo>
                    <a:pt x="1310" y="3985"/>
                  </a:lnTo>
                  <a:lnTo>
                    <a:pt x="1327" y="3969"/>
                  </a:lnTo>
                  <a:lnTo>
                    <a:pt x="1343" y="3952"/>
                  </a:lnTo>
                  <a:lnTo>
                    <a:pt x="1359" y="3936"/>
                  </a:lnTo>
                  <a:lnTo>
                    <a:pt x="1374" y="3919"/>
                  </a:lnTo>
                  <a:lnTo>
                    <a:pt x="1387" y="3901"/>
                  </a:lnTo>
                  <a:lnTo>
                    <a:pt x="1400" y="3883"/>
                  </a:lnTo>
                  <a:lnTo>
                    <a:pt x="1413" y="3864"/>
                  </a:lnTo>
                  <a:lnTo>
                    <a:pt x="1424" y="3844"/>
                  </a:lnTo>
                  <a:lnTo>
                    <a:pt x="1434" y="3825"/>
                  </a:lnTo>
                  <a:lnTo>
                    <a:pt x="1443" y="3804"/>
                  </a:lnTo>
                  <a:lnTo>
                    <a:pt x="1451" y="3783"/>
                  </a:lnTo>
                  <a:lnTo>
                    <a:pt x="1460" y="3761"/>
                  </a:lnTo>
                  <a:lnTo>
                    <a:pt x="1466" y="3739"/>
                  </a:lnTo>
                  <a:lnTo>
                    <a:pt x="1471" y="3717"/>
                  </a:lnTo>
                  <a:lnTo>
                    <a:pt x="1475" y="3693"/>
                  </a:lnTo>
                  <a:lnTo>
                    <a:pt x="1477" y="3670"/>
                  </a:lnTo>
                  <a:lnTo>
                    <a:pt x="1479" y="3645"/>
                  </a:lnTo>
                  <a:lnTo>
                    <a:pt x="1480" y="3620"/>
                  </a:lnTo>
                  <a:lnTo>
                    <a:pt x="1479" y="3591"/>
                  </a:lnTo>
                  <a:lnTo>
                    <a:pt x="1477" y="3563"/>
                  </a:lnTo>
                  <a:lnTo>
                    <a:pt x="1474" y="3536"/>
                  </a:lnTo>
                  <a:lnTo>
                    <a:pt x="1469" y="3510"/>
                  </a:lnTo>
                  <a:lnTo>
                    <a:pt x="1464" y="3485"/>
                  </a:lnTo>
                  <a:lnTo>
                    <a:pt x="1457" y="3460"/>
                  </a:lnTo>
                  <a:lnTo>
                    <a:pt x="1448" y="3437"/>
                  </a:lnTo>
                  <a:lnTo>
                    <a:pt x="1439" y="3413"/>
                  </a:lnTo>
                  <a:lnTo>
                    <a:pt x="1429" y="3392"/>
                  </a:lnTo>
                  <a:lnTo>
                    <a:pt x="1418" y="3370"/>
                  </a:lnTo>
                  <a:lnTo>
                    <a:pt x="1406" y="3350"/>
                  </a:lnTo>
                  <a:lnTo>
                    <a:pt x="1392" y="3330"/>
                  </a:lnTo>
                  <a:lnTo>
                    <a:pt x="1378" y="3311"/>
                  </a:lnTo>
                  <a:lnTo>
                    <a:pt x="1364" y="3293"/>
                  </a:lnTo>
                  <a:lnTo>
                    <a:pt x="1347" y="3275"/>
                  </a:lnTo>
                  <a:lnTo>
                    <a:pt x="1331" y="3258"/>
                  </a:lnTo>
                  <a:lnTo>
                    <a:pt x="1314" y="3242"/>
                  </a:lnTo>
                  <a:lnTo>
                    <a:pt x="1296" y="3226"/>
                  </a:lnTo>
                  <a:lnTo>
                    <a:pt x="1278" y="3211"/>
                  </a:lnTo>
                  <a:lnTo>
                    <a:pt x="1259" y="3197"/>
                  </a:lnTo>
                  <a:lnTo>
                    <a:pt x="1239" y="3183"/>
                  </a:lnTo>
                  <a:lnTo>
                    <a:pt x="1219" y="3169"/>
                  </a:lnTo>
                  <a:lnTo>
                    <a:pt x="1198" y="3157"/>
                  </a:lnTo>
                  <a:lnTo>
                    <a:pt x="1177" y="3145"/>
                  </a:lnTo>
                  <a:lnTo>
                    <a:pt x="1155" y="3134"/>
                  </a:lnTo>
                  <a:lnTo>
                    <a:pt x="1133" y="3122"/>
                  </a:lnTo>
                  <a:lnTo>
                    <a:pt x="1112" y="3112"/>
                  </a:lnTo>
                  <a:lnTo>
                    <a:pt x="1088" y="3102"/>
                  </a:lnTo>
                  <a:lnTo>
                    <a:pt x="1043" y="3084"/>
                  </a:lnTo>
                  <a:lnTo>
                    <a:pt x="996" y="3066"/>
                  </a:lnTo>
                  <a:lnTo>
                    <a:pt x="996" y="2657"/>
                  </a:lnTo>
                  <a:lnTo>
                    <a:pt x="618" y="2657"/>
                  </a:lnTo>
                  <a:lnTo>
                    <a:pt x="621" y="2616"/>
                  </a:lnTo>
                  <a:lnTo>
                    <a:pt x="624" y="2574"/>
                  </a:lnTo>
                  <a:lnTo>
                    <a:pt x="627" y="2530"/>
                  </a:lnTo>
                  <a:lnTo>
                    <a:pt x="631" y="2484"/>
                  </a:lnTo>
                  <a:lnTo>
                    <a:pt x="634" y="2437"/>
                  </a:lnTo>
                  <a:lnTo>
                    <a:pt x="637" y="2389"/>
                  </a:lnTo>
                  <a:lnTo>
                    <a:pt x="641" y="2339"/>
                  </a:lnTo>
                  <a:lnTo>
                    <a:pt x="644" y="2288"/>
                  </a:lnTo>
                  <a:lnTo>
                    <a:pt x="648" y="2237"/>
                  </a:lnTo>
                  <a:lnTo>
                    <a:pt x="651" y="2186"/>
                  </a:lnTo>
                  <a:lnTo>
                    <a:pt x="655" y="2135"/>
                  </a:lnTo>
                  <a:lnTo>
                    <a:pt x="658" y="2085"/>
                  </a:lnTo>
                  <a:lnTo>
                    <a:pt x="662" y="2034"/>
                  </a:lnTo>
                  <a:lnTo>
                    <a:pt x="665" y="1985"/>
                  </a:lnTo>
                  <a:lnTo>
                    <a:pt x="670" y="1936"/>
                  </a:lnTo>
                  <a:lnTo>
                    <a:pt x="673" y="1889"/>
                  </a:lnTo>
                  <a:lnTo>
                    <a:pt x="1998" y="1889"/>
                  </a:lnTo>
                  <a:lnTo>
                    <a:pt x="1994" y="1877"/>
                  </a:lnTo>
                  <a:lnTo>
                    <a:pt x="1986" y="1844"/>
                  </a:lnTo>
                  <a:lnTo>
                    <a:pt x="1974" y="1795"/>
                  </a:lnTo>
                  <a:lnTo>
                    <a:pt x="1961" y="1736"/>
                  </a:lnTo>
                  <a:lnTo>
                    <a:pt x="1948" y="1674"/>
                  </a:lnTo>
                  <a:lnTo>
                    <a:pt x="1935" y="1611"/>
                  </a:lnTo>
                  <a:lnTo>
                    <a:pt x="1930" y="1582"/>
                  </a:lnTo>
                  <a:lnTo>
                    <a:pt x="1927" y="1555"/>
                  </a:lnTo>
                  <a:lnTo>
                    <a:pt x="1924" y="1531"/>
                  </a:lnTo>
                  <a:lnTo>
                    <a:pt x="1924" y="1511"/>
                  </a:lnTo>
                  <a:lnTo>
                    <a:pt x="1924" y="1494"/>
                  </a:lnTo>
                  <a:lnTo>
                    <a:pt x="1925" y="1479"/>
                  </a:lnTo>
                  <a:lnTo>
                    <a:pt x="1927" y="1464"/>
                  </a:lnTo>
                  <a:lnTo>
                    <a:pt x="1929" y="1449"/>
                  </a:lnTo>
                  <a:lnTo>
                    <a:pt x="1932" y="1436"/>
                  </a:lnTo>
                  <a:lnTo>
                    <a:pt x="1936" y="1423"/>
                  </a:lnTo>
                  <a:lnTo>
                    <a:pt x="1941" y="1410"/>
                  </a:lnTo>
                  <a:lnTo>
                    <a:pt x="1947" y="1397"/>
                  </a:lnTo>
                  <a:lnTo>
                    <a:pt x="1953" y="1386"/>
                  </a:lnTo>
                  <a:lnTo>
                    <a:pt x="1959" y="1375"/>
                  </a:lnTo>
                  <a:lnTo>
                    <a:pt x="1967" y="1365"/>
                  </a:lnTo>
                  <a:lnTo>
                    <a:pt x="1975" y="1355"/>
                  </a:lnTo>
                  <a:lnTo>
                    <a:pt x="1983" y="1345"/>
                  </a:lnTo>
                  <a:lnTo>
                    <a:pt x="1993" y="1336"/>
                  </a:lnTo>
                  <a:lnTo>
                    <a:pt x="2004" y="1328"/>
                  </a:lnTo>
                  <a:lnTo>
                    <a:pt x="2015" y="1320"/>
                  </a:lnTo>
                  <a:lnTo>
                    <a:pt x="2026" y="1313"/>
                  </a:lnTo>
                  <a:lnTo>
                    <a:pt x="2039" y="1306"/>
                  </a:lnTo>
                  <a:lnTo>
                    <a:pt x="2053" y="1299"/>
                  </a:lnTo>
                  <a:lnTo>
                    <a:pt x="2066" y="1293"/>
                  </a:lnTo>
                  <a:lnTo>
                    <a:pt x="2081" y="1288"/>
                  </a:lnTo>
                  <a:lnTo>
                    <a:pt x="2097" y="1283"/>
                  </a:lnTo>
                  <a:lnTo>
                    <a:pt x="2113" y="1279"/>
                  </a:lnTo>
                  <a:lnTo>
                    <a:pt x="2129" y="1275"/>
                  </a:lnTo>
                  <a:lnTo>
                    <a:pt x="2148" y="1272"/>
                  </a:lnTo>
                  <a:lnTo>
                    <a:pt x="2166" y="1269"/>
                  </a:lnTo>
                  <a:lnTo>
                    <a:pt x="2184" y="1266"/>
                  </a:lnTo>
                  <a:lnTo>
                    <a:pt x="2205" y="1264"/>
                  </a:lnTo>
                  <a:lnTo>
                    <a:pt x="2247" y="1262"/>
                  </a:lnTo>
                  <a:lnTo>
                    <a:pt x="2292" y="1261"/>
                  </a:lnTo>
                  <a:lnTo>
                    <a:pt x="2322" y="1261"/>
                  </a:lnTo>
                  <a:lnTo>
                    <a:pt x="2352" y="1262"/>
                  </a:lnTo>
                  <a:lnTo>
                    <a:pt x="2381" y="1264"/>
                  </a:lnTo>
                  <a:lnTo>
                    <a:pt x="2411" y="1266"/>
                  </a:lnTo>
                  <a:lnTo>
                    <a:pt x="2472" y="1270"/>
                  </a:lnTo>
                  <a:lnTo>
                    <a:pt x="2540" y="1276"/>
                  </a:lnTo>
                  <a:lnTo>
                    <a:pt x="2616" y="1281"/>
                  </a:lnTo>
                  <a:lnTo>
                    <a:pt x="2706" y="1286"/>
                  </a:lnTo>
                  <a:lnTo>
                    <a:pt x="2757" y="1288"/>
                  </a:lnTo>
                  <a:lnTo>
                    <a:pt x="2812" y="1290"/>
                  </a:lnTo>
                  <a:lnTo>
                    <a:pt x="2872" y="1290"/>
                  </a:lnTo>
                  <a:lnTo>
                    <a:pt x="2939" y="1291"/>
                  </a:lnTo>
                  <a:lnTo>
                    <a:pt x="3015" y="1290"/>
                  </a:lnTo>
                  <a:lnTo>
                    <a:pt x="3090" y="1288"/>
                  </a:lnTo>
                  <a:lnTo>
                    <a:pt x="3163" y="1285"/>
                  </a:lnTo>
                  <a:lnTo>
                    <a:pt x="3236" y="1280"/>
                  </a:lnTo>
                  <a:lnTo>
                    <a:pt x="3306" y="1273"/>
                  </a:lnTo>
                  <a:lnTo>
                    <a:pt x="3376" y="1265"/>
                  </a:lnTo>
                  <a:lnTo>
                    <a:pt x="3443" y="1255"/>
                  </a:lnTo>
                  <a:lnTo>
                    <a:pt x="3509" y="1243"/>
                  </a:lnTo>
                  <a:lnTo>
                    <a:pt x="3542" y="1237"/>
                  </a:lnTo>
                  <a:lnTo>
                    <a:pt x="3575" y="1230"/>
                  </a:lnTo>
                  <a:lnTo>
                    <a:pt x="3607" y="1223"/>
                  </a:lnTo>
                  <a:lnTo>
                    <a:pt x="3639" y="1216"/>
                  </a:lnTo>
                  <a:lnTo>
                    <a:pt x="3670" y="1208"/>
                  </a:lnTo>
                  <a:lnTo>
                    <a:pt x="3701" y="1198"/>
                  </a:lnTo>
                  <a:lnTo>
                    <a:pt x="3732" y="1189"/>
                  </a:lnTo>
                  <a:lnTo>
                    <a:pt x="3761" y="1180"/>
                  </a:lnTo>
                  <a:lnTo>
                    <a:pt x="3792" y="1170"/>
                  </a:lnTo>
                  <a:lnTo>
                    <a:pt x="3822" y="1160"/>
                  </a:lnTo>
                  <a:lnTo>
                    <a:pt x="3850" y="1148"/>
                  </a:lnTo>
                  <a:lnTo>
                    <a:pt x="3880" y="1136"/>
                  </a:lnTo>
                  <a:lnTo>
                    <a:pt x="3908" y="1125"/>
                  </a:lnTo>
                  <a:lnTo>
                    <a:pt x="3936" y="1112"/>
                  </a:lnTo>
                  <a:lnTo>
                    <a:pt x="3965" y="1098"/>
                  </a:lnTo>
                  <a:lnTo>
                    <a:pt x="3992" y="1085"/>
                  </a:lnTo>
                  <a:lnTo>
                    <a:pt x="3992" y="994"/>
                  </a:lnTo>
                  <a:lnTo>
                    <a:pt x="3948" y="1001"/>
                  </a:lnTo>
                  <a:lnTo>
                    <a:pt x="3906" y="1007"/>
                  </a:lnTo>
                  <a:lnTo>
                    <a:pt x="3866" y="1013"/>
                  </a:lnTo>
                  <a:lnTo>
                    <a:pt x="3826" y="1017"/>
                  </a:lnTo>
                  <a:lnTo>
                    <a:pt x="3786" y="1019"/>
                  </a:lnTo>
                  <a:lnTo>
                    <a:pt x="3746" y="1021"/>
                  </a:lnTo>
                  <a:lnTo>
                    <a:pt x="3705" y="1022"/>
                  </a:lnTo>
                  <a:lnTo>
                    <a:pt x="3663" y="10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47" name="Freeform 914"/>
            <p:cNvSpPr/>
            <p:nvPr/>
          </p:nvSpPr>
          <p:spPr>
            <a:xfrm>
              <a:off x="6116760" y="5734080"/>
              <a:ext cx="269640" cy="19836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042" h="1500">
                  <a:moveTo>
                    <a:pt x="2042" y="1500"/>
                  </a:moveTo>
                  <a:lnTo>
                    <a:pt x="2042" y="0"/>
                  </a:lnTo>
                  <a:lnTo>
                    <a:pt x="1482" y="0"/>
                  </a:lnTo>
                  <a:lnTo>
                    <a:pt x="1011" y="1173"/>
                  </a:lnTo>
                  <a:lnTo>
                    <a:pt x="563" y="0"/>
                  </a:lnTo>
                  <a:lnTo>
                    <a:pt x="0" y="0"/>
                  </a:lnTo>
                  <a:lnTo>
                    <a:pt x="0" y="1500"/>
                  </a:lnTo>
                  <a:lnTo>
                    <a:pt x="366" y="1500"/>
                  </a:lnTo>
                  <a:lnTo>
                    <a:pt x="366" y="373"/>
                  </a:lnTo>
                  <a:lnTo>
                    <a:pt x="811" y="1500"/>
                  </a:lnTo>
                  <a:lnTo>
                    <a:pt x="1205" y="1500"/>
                  </a:lnTo>
                  <a:lnTo>
                    <a:pt x="1674" y="373"/>
                  </a:lnTo>
                  <a:lnTo>
                    <a:pt x="1674" y="1500"/>
                  </a:lnTo>
                  <a:lnTo>
                    <a:pt x="2042" y="15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48" name="Freeform 915"/>
            <p:cNvSpPr/>
            <p:nvPr/>
          </p:nvSpPr>
          <p:spPr>
            <a:xfrm>
              <a:off x="6418440" y="5734080"/>
              <a:ext cx="191880" cy="1983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447" h="1500">
                  <a:moveTo>
                    <a:pt x="1447" y="1500"/>
                  </a:moveTo>
                  <a:lnTo>
                    <a:pt x="1447" y="1233"/>
                  </a:lnTo>
                  <a:lnTo>
                    <a:pt x="963" y="1233"/>
                  </a:lnTo>
                  <a:lnTo>
                    <a:pt x="905" y="1233"/>
                  </a:lnTo>
                  <a:lnTo>
                    <a:pt x="850" y="1230"/>
                  </a:lnTo>
                  <a:lnTo>
                    <a:pt x="824" y="1229"/>
                  </a:lnTo>
                  <a:lnTo>
                    <a:pt x="798" y="1226"/>
                  </a:lnTo>
                  <a:lnTo>
                    <a:pt x="774" y="1223"/>
                  </a:lnTo>
                  <a:lnTo>
                    <a:pt x="750" y="1220"/>
                  </a:lnTo>
                  <a:lnTo>
                    <a:pt x="727" y="1216"/>
                  </a:lnTo>
                  <a:lnTo>
                    <a:pt x="704" y="1210"/>
                  </a:lnTo>
                  <a:lnTo>
                    <a:pt x="684" y="1205"/>
                  </a:lnTo>
                  <a:lnTo>
                    <a:pt x="663" y="1199"/>
                  </a:lnTo>
                  <a:lnTo>
                    <a:pt x="644" y="1193"/>
                  </a:lnTo>
                  <a:lnTo>
                    <a:pt x="625" y="1185"/>
                  </a:lnTo>
                  <a:lnTo>
                    <a:pt x="607" y="1177"/>
                  </a:lnTo>
                  <a:lnTo>
                    <a:pt x="590" y="1168"/>
                  </a:lnTo>
                  <a:lnTo>
                    <a:pt x="574" y="1157"/>
                  </a:lnTo>
                  <a:lnTo>
                    <a:pt x="558" y="1147"/>
                  </a:lnTo>
                  <a:lnTo>
                    <a:pt x="544" y="1135"/>
                  </a:lnTo>
                  <a:lnTo>
                    <a:pt x="531" y="1123"/>
                  </a:lnTo>
                  <a:lnTo>
                    <a:pt x="517" y="1108"/>
                  </a:lnTo>
                  <a:lnTo>
                    <a:pt x="506" y="1094"/>
                  </a:lnTo>
                  <a:lnTo>
                    <a:pt x="495" y="1079"/>
                  </a:lnTo>
                  <a:lnTo>
                    <a:pt x="485" y="1061"/>
                  </a:lnTo>
                  <a:lnTo>
                    <a:pt x="476" y="1044"/>
                  </a:lnTo>
                  <a:lnTo>
                    <a:pt x="467" y="1025"/>
                  </a:lnTo>
                  <a:lnTo>
                    <a:pt x="459" y="1005"/>
                  </a:lnTo>
                  <a:lnTo>
                    <a:pt x="453" y="984"/>
                  </a:lnTo>
                  <a:lnTo>
                    <a:pt x="447" y="961"/>
                  </a:lnTo>
                  <a:lnTo>
                    <a:pt x="442" y="938"/>
                  </a:lnTo>
                  <a:lnTo>
                    <a:pt x="438" y="912"/>
                  </a:lnTo>
                  <a:lnTo>
                    <a:pt x="435" y="886"/>
                  </a:lnTo>
                  <a:lnTo>
                    <a:pt x="1447" y="886"/>
                  </a:lnTo>
                  <a:lnTo>
                    <a:pt x="1447" y="620"/>
                  </a:lnTo>
                  <a:lnTo>
                    <a:pt x="435" y="620"/>
                  </a:lnTo>
                  <a:lnTo>
                    <a:pt x="439" y="589"/>
                  </a:lnTo>
                  <a:lnTo>
                    <a:pt x="443" y="556"/>
                  </a:lnTo>
                  <a:lnTo>
                    <a:pt x="448" y="524"/>
                  </a:lnTo>
                  <a:lnTo>
                    <a:pt x="455" y="493"/>
                  </a:lnTo>
                  <a:lnTo>
                    <a:pt x="459" y="478"/>
                  </a:lnTo>
                  <a:lnTo>
                    <a:pt x="464" y="462"/>
                  </a:lnTo>
                  <a:lnTo>
                    <a:pt x="470" y="448"/>
                  </a:lnTo>
                  <a:lnTo>
                    <a:pt x="478" y="433"/>
                  </a:lnTo>
                  <a:lnTo>
                    <a:pt x="485" y="418"/>
                  </a:lnTo>
                  <a:lnTo>
                    <a:pt x="494" y="405"/>
                  </a:lnTo>
                  <a:lnTo>
                    <a:pt x="504" y="391"/>
                  </a:lnTo>
                  <a:lnTo>
                    <a:pt x="515" y="377"/>
                  </a:lnTo>
                  <a:lnTo>
                    <a:pt x="530" y="364"/>
                  </a:lnTo>
                  <a:lnTo>
                    <a:pt x="543" y="351"/>
                  </a:lnTo>
                  <a:lnTo>
                    <a:pt x="558" y="340"/>
                  </a:lnTo>
                  <a:lnTo>
                    <a:pt x="574" y="328"/>
                  </a:lnTo>
                  <a:lnTo>
                    <a:pt x="590" y="319"/>
                  </a:lnTo>
                  <a:lnTo>
                    <a:pt x="607" y="310"/>
                  </a:lnTo>
                  <a:lnTo>
                    <a:pt x="626" y="302"/>
                  </a:lnTo>
                  <a:lnTo>
                    <a:pt x="645" y="294"/>
                  </a:lnTo>
                  <a:lnTo>
                    <a:pt x="660" y="290"/>
                  </a:lnTo>
                  <a:lnTo>
                    <a:pt x="678" y="286"/>
                  </a:lnTo>
                  <a:lnTo>
                    <a:pt x="695" y="283"/>
                  </a:lnTo>
                  <a:lnTo>
                    <a:pt x="714" y="280"/>
                  </a:lnTo>
                  <a:lnTo>
                    <a:pt x="754" y="275"/>
                  </a:lnTo>
                  <a:lnTo>
                    <a:pt x="796" y="272"/>
                  </a:lnTo>
                  <a:lnTo>
                    <a:pt x="837" y="270"/>
                  </a:lnTo>
                  <a:lnTo>
                    <a:pt x="878" y="269"/>
                  </a:lnTo>
                  <a:lnTo>
                    <a:pt x="914" y="268"/>
                  </a:lnTo>
                  <a:lnTo>
                    <a:pt x="947" y="268"/>
                  </a:lnTo>
                  <a:lnTo>
                    <a:pt x="1447" y="268"/>
                  </a:lnTo>
                  <a:lnTo>
                    <a:pt x="1447" y="0"/>
                  </a:lnTo>
                  <a:lnTo>
                    <a:pt x="799" y="0"/>
                  </a:lnTo>
                  <a:lnTo>
                    <a:pt x="746" y="1"/>
                  </a:lnTo>
                  <a:lnTo>
                    <a:pt x="693" y="2"/>
                  </a:lnTo>
                  <a:lnTo>
                    <a:pt x="665" y="4"/>
                  </a:lnTo>
                  <a:lnTo>
                    <a:pt x="639" y="6"/>
                  </a:lnTo>
                  <a:lnTo>
                    <a:pt x="612" y="9"/>
                  </a:lnTo>
                  <a:lnTo>
                    <a:pt x="586" y="12"/>
                  </a:lnTo>
                  <a:lnTo>
                    <a:pt x="559" y="17"/>
                  </a:lnTo>
                  <a:lnTo>
                    <a:pt x="534" y="21"/>
                  </a:lnTo>
                  <a:lnTo>
                    <a:pt x="507" y="27"/>
                  </a:lnTo>
                  <a:lnTo>
                    <a:pt x="483" y="35"/>
                  </a:lnTo>
                  <a:lnTo>
                    <a:pt x="457" y="42"/>
                  </a:lnTo>
                  <a:lnTo>
                    <a:pt x="433" y="51"/>
                  </a:lnTo>
                  <a:lnTo>
                    <a:pt x="409" y="61"/>
                  </a:lnTo>
                  <a:lnTo>
                    <a:pt x="387" y="72"/>
                  </a:lnTo>
                  <a:lnTo>
                    <a:pt x="361" y="86"/>
                  </a:lnTo>
                  <a:lnTo>
                    <a:pt x="337" y="100"/>
                  </a:lnTo>
                  <a:lnTo>
                    <a:pt x="313" y="115"/>
                  </a:lnTo>
                  <a:lnTo>
                    <a:pt x="291" y="131"/>
                  </a:lnTo>
                  <a:lnTo>
                    <a:pt x="269" y="148"/>
                  </a:lnTo>
                  <a:lnTo>
                    <a:pt x="248" y="164"/>
                  </a:lnTo>
                  <a:lnTo>
                    <a:pt x="228" y="182"/>
                  </a:lnTo>
                  <a:lnTo>
                    <a:pt x="209" y="200"/>
                  </a:lnTo>
                  <a:lnTo>
                    <a:pt x="192" y="218"/>
                  </a:lnTo>
                  <a:lnTo>
                    <a:pt x="174" y="238"/>
                  </a:lnTo>
                  <a:lnTo>
                    <a:pt x="158" y="257"/>
                  </a:lnTo>
                  <a:lnTo>
                    <a:pt x="143" y="277"/>
                  </a:lnTo>
                  <a:lnTo>
                    <a:pt x="128" y="298"/>
                  </a:lnTo>
                  <a:lnTo>
                    <a:pt x="114" y="318"/>
                  </a:lnTo>
                  <a:lnTo>
                    <a:pt x="102" y="340"/>
                  </a:lnTo>
                  <a:lnTo>
                    <a:pt x="90" y="361"/>
                  </a:lnTo>
                  <a:lnTo>
                    <a:pt x="78" y="383"/>
                  </a:lnTo>
                  <a:lnTo>
                    <a:pt x="68" y="405"/>
                  </a:lnTo>
                  <a:lnTo>
                    <a:pt x="58" y="428"/>
                  </a:lnTo>
                  <a:lnTo>
                    <a:pt x="50" y="451"/>
                  </a:lnTo>
                  <a:lnTo>
                    <a:pt x="42" y="473"/>
                  </a:lnTo>
                  <a:lnTo>
                    <a:pt x="35" y="497"/>
                  </a:lnTo>
                  <a:lnTo>
                    <a:pt x="27" y="520"/>
                  </a:lnTo>
                  <a:lnTo>
                    <a:pt x="21" y="544"/>
                  </a:lnTo>
                  <a:lnTo>
                    <a:pt x="16" y="568"/>
                  </a:lnTo>
                  <a:lnTo>
                    <a:pt x="12" y="592"/>
                  </a:lnTo>
                  <a:lnTo>
                    <a:pt x="8" y="616"/>
                  </a:lnTo>
                  <a:lnTo>
                    <a:pt x="5" y="641"/>
                  </a:lnTo>
                  <a:lnTo>
                    <a:pt x="3" y="665"/>
                  </a:lnTo>
                  <a:lnTo>
                    <a:pt x="2" y="689"/>
                  </a:lnTo>
                  <a:lnTo>
                    <a:pt x="1" y="713"/>
                  </a:lnTo>
                  <a:lnTo>
                    <a:pt x="0" y="738"/>
                  </a:lnTo>
                  <a:lnTo>
                    <a:pt x="1" y="763"/>
                  </a:lnTo>
                  <a:lnTo>
                    <a:pt x="2" y="789"/>
                  </a:lnTo>
                  <a:lnTo>
                    <a:pt x="3" y="814"/>
                  </a:lnTo>
                  <a:lnTo>
                    <a:pt x="6" y="841"/>
                  </a:lnTo>
                  <a:lnTo>
                    <a:pt x="9" y="867"/>
                  </a:lnTo>
                  <a:lnTo>
                    <a:pt x="12" y="894"/>
                  </a:lnTo>
                  <a:lnTo>
                    <a:pt x="17" y="921"/>
                  </a:lnTo>
                  <a:lnTo>
                    <a:pt x="22" y="947"/>
                  </a:lnTo>
                  <a:lnTo>
                    <a:pt x="28" y="975"/>
                  </a:lnTo>
                  <a:lnTo>
                    <a:pt x="36" y="1001"/>
                  </a:lnTo>
                  <a:lnTo>
                    <a:pt x="44" y="1028"/>
                  </a:lnTo>
                  <a:lnTo>
                    <a:pt x="53" y="1053"/>
                  </a:lnTo>
                  <a:lnTo>
                    <a:pt x="62" y="1080"/>
                  </a:lnTo>
                  <a:lnTo>
                    <a:pt x="73" y="1105"/>
                  </a:lnTo>
                  <a:lnTo>
                    <a:pt x="85" y="1131"/>
                  </a:lnTo>
                  <a:lnTo>
                    <a:pt x="97" y="1155"/>
                  </a:lnTo>
                  <a:lnTo>
                    <a:pt x="111" y="1180"/>
                  </a:lnTo>
                  <a:lnTo>
                    <a:pt x="125" y="1204"/>
                  </a:lnTo>
                  <a:lnTo>
                    <a:pt x="141" y="1227"/>
                  </a:lnTo>
                  <a:lnTo>
                    <a:pt x="157" y="1250"/>
                  </a:lnTo>
                  <a:lnTo>
                    <a:pt x="175" y="1272"/>
                  </a:lnTo>
                  <a:lnTo>
                    <a:pt x="194" y="1293"/>
                  </a:lnTo>
                  <a:lnTo>
                    <a:pt x="213" y="1314"/>
                  </a:lnTo>
                  <a:lnTo>
                    <a:pt x="235" y="1333"/>
                  </a:lnTo>
                  <a:lnTo>
                    <a:pt x="257" y="1351"/>
                  </a:lnTo>
                  <a:lnTo>
                    <a:pt x="281" y="1369"/>
                  </a:lnTo>
                  <a:lnTo>
                    <a:pt x="305" y="1385"/>
                  </a:lnTo>
                  <a:lnTo>
                    <a:pt x="331" y="1400"/>
                  </a:lnTo>
                  <a:lnTo>
                    <a:pt x="357" y="1415"/>
                  </a:lnTo>
                  <a:lnTo>
                    <a:pt x="386" y="1427"/>
                  </a:lnTo>
                  <a:lnTo>
                    <a:pt x="415" y="1439"/>
                  </a:lnTo>
                  <a:lnTo>
                    <a:pt x="446" y="1449"/>
                  </a:lnTo>
                  <a:lnTo>
                    <a:pt x="474" y="1456"/>
                  </a:lnTo>
                  <a:lnTo>
                    <a:pt x="503" y="1464"/>
                  </a:lnTo>
                  <a:lnTo>
                    <a:pt x="534" y="1471"/>
                  </a:lnTo>
                  <a:lnTo>
                    <a:pt x="564" y="1476"/>
                  </a:lnTo>
                  <a:lnTo>
                    <a:pt x="596" y="1481"/>
                  </a:lnTo>
                  <a:lnTo>
                    <a:pt x="629" y="1485"/>
                  </a:lnTo>
                  <a:lnTo>
                    <a:pt x="661" y="1488"/>
                  </a:lnTo>
                  <a:lnTo>
                    <a:pt x="694" y="1491"/>
                  </a:lnTo>
                  <a:lnTo>
                    <a:pt x="759" y="1496"/>
                  </a:lnTo>
                  <a:lnTo>
                    <a:pt x="825" y="1498"/>
                  </a:lnTo>
                  <a:lnTo>
                    <a:pt x="887" y="1500"/>
                  </a:lnTo>
                  <a:lnTo>
                    <a:pt x="947" y="1500"/>
                  </a:lnTo>
                  <a:lnTo>
                    <a:pt x="1447" y="15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49" name="Freeform 916"/>
            <p:cNvSpPr/>
            <p:nvPr/>
          </p:nvSpPr>
          <p:spPr>
            <a:xfrm>
              <a:off x="6648480" y="5734080"/>
              <a:ext cx="223920" cy="1983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692" h="1500">
                  <a:moveTo>
                    <a:pt x="1692" y="1058"/>
                  </a:moveTo>
                  <a:lnTo>
                    <a:pt x="1691" y="1029"/>
                  </a:lnTo>
                  <a:lnTo>
                    <a:pt x="1689" y="999"/>
                  </a:lnTo>
                  <a:lnTo>
                    <a:pt x="1684" y="970"/>
                  </a:lnTo>
                  <a:lnTo>
                    <a:pt x="1678" y="940"/>
                  </a:lnTo>
                  <a:lnTo>
                    <a:pt x="1671" y="911"/>
                  </a:lnTo>
                  <a:lnTo>
                    <a:pt x="1661" y="883"/>
                  </a:lnTo>
                  <a:lnTo>
                    <a:pt x="1656" y="868"/>
                  </a:lnTo>
                  <a:lnTo>
                    <a:pt x="1650" y="855"/>
                  </a:lnTo>
                  <a:lnTo>
                    <a:pt x="1644" y="842"/>
                  </a:lnTo>
                  <a:lnTo>
                    <a:pt x="1636" y="828"/>
                  </a:lnTo>
                  <a:lnTo>
                    <a:pt x="1628" y="815"/>
                  </a:lnTo>
                  <a:lnTo>
                    <a:pt x="1621" y="802"/>
                  </a:lnTo>
                  <a:lnTo>
                    <a:pt x="1612" y="790"/>
                  </a:lnTo>
                  <a:lnTo>
                    <a:pt x="1603" y="778"/>
                  </a:lnTo>
                  <a:lnTo>
                    <a:pt x="1594" y="765"/>
                  </a:lnTo>
                  <a:lnTo>
                    <a:pt x="1582" y="753"/>
                  </a:lnTo>
                  <a:lnTo>
                    <a:pt x="1572" y="742"/>
                  </a:lnTo>
                  <a:lnTo>
                    <a:pt x="1560" y="732"/>
                  </a:lnTo>
                  <a:lnTo>
                    <a:pt x="1549" y="721"/>
                  </a:lnTo>
                  <a:lnTo>
                    <a:pt x="1535" y="711"/>
                  </a:lnTo>
                  <a:lnTo>
                    <a:pt x="1522" y="701"/>
                  </a:lnTo>
                  <a:lnTo>
                    <a:pt x="1509" y="692"/>
                  </a:lnTo>
                  <a:lnTo>
                    <a:pt x="1494" y="684"/>
                  </a:lnTo>
                  <a:lnTo>
                    <a:pt x="1478" y="676"/>
                  </a:lnTo>
                  <a:lnTo>
                    <a:pt x="1463" y="667"/>
                  </a:lnTo>
                  <a:lnTo>
                    <a:pt x="1447" y="661"/>
                  </a:lnTo>
                  <a:lnTo>
                    <a:pt x="1422" y="651"/>
                  </a:lnTo>
                  <a:lnTo>
                    <a:pt x="1398" y="643"/>
                  </a:lnTo>
                  <a:lnTo>
                    <a:pt x="1373" y="636"/>
                  </a:lnTo>
                  <a:lnTo>
                    <a:pt x="1349" y="630"/>
                  </a:lnTo>
                  <a:lnTo>
                    <a:pt x="1324" y="625"/>
                  </a:lnTo>
                  <a:lnTo>
                    <a:pt x="1299" y="619"/>
                  </a:lnTo>
                  <a:lnTo>
                    <a:pt x="1274" y="616"/>
                  </a:lnTo>
                  <a:lnTo>
                    <a:pt x="1249" y="612"/>
                  </a:lnTo>
                  <a:lnTo>
                    <a:pt x="1198" y="608"/>
                  </a:lnTo>
                  <a:lnTo>
                    <a:pt x="1146" y="606"/>
                  </a:lnTo>
                  <a:lnTo>
                    <a:pt x="1095" y="605"/>
                  </a:lnTo>
                  <a:lnTo>
                    <a:pt x="1043" y="604"/>
                  </a:lnTo>
                  <a:lnTo>
                    <a:pt x="755" y="604"/>
                  </a:lnTo>
                  <a:lnTo>
                    <a:pt x="727" y="604"/>
                  </a:lnTo>
                  <a:lnTo>
                    <a:pt x="698" y="604"/>
                  </a:lnTo>
                  <a:lnTo>
                    <a:pt x="670" y="603"/>
                  </a:lnTo>
                  <a:lnTo>
                    <a:pt x="642" y="601"/>
                  </a:lnTo>
                  <a:lnTo>
                    <a:pt x="614" y="598"/>
                  </a:lnTo>
                  <a:lnTo>
                    <a:pt x="587" y="594"/>
                  </a:lnTo>
                  <a:lnTo>
                    <a:pt x="561" y="588"/>
                  </a:lnTo>
                  <a:lnTo>
                    <a:pt x="536" y="581"/>
                  </a:lnTo>
                  <a:lnTo>
                    <a:pt x="524" y="576"/>
                  </a:lnTo>
                  <a:lnTo>
                    <a:pt x="513" y="570"/>
                  </a:lnTo>
                  <a:lnTo>
                    <a:pt x="502" y="565"/>
                  </a:lnTo>
                  <a:lnTo>
                    <a:pt x="492" y="559"/>
                  </a:lnTo>
                  <a:lnTo>
                    <a:pt x="482" y="553"/>
                  </a:lnTo>
                  <a:lnTo>
                    <a:pt x="473" y="546"/>
                  </a:lnTo>
                  <a:lnTo>
                    <a:pt x="465" y="538"/>
                  </a:lnTo>
                  <a:lnTo>
                    <a:pt x="457" y="530"/>
                  </a:lnTo>
                  <a:lnTo>
                    <a:pt x="450" y="520"/>
                  </a:lnTo>
                  <a:lnTo>
                    <a:pt x="444" y="510"/>
                  </a:lnTo>
                  <a:lnTo>
                    <a:pt x="439" y="499"/>
                  </a:lnTo>
                  <a:lnTo>
                    <a:pt x="434" y="488"/>
                  </a:lnTo>
                  <a:lnTo>
                    <a:pt x="431" y="475"/>
                  </a:lnTo>
                  <a:lnTo>
                    <a:pt x="428" y="463"/>
                  </a:lnTo>
                  <a:lnTo>
                    <a:pt x="427" y="449"/>
                  </a:lnTo>
                  <a:lnTo>
                    <a:pt x="426" y="434"/>
                  </a:lnTo>
                  <a:lnTo>
                    <a:pt x="427" y="417"/>
                  </a:lnTo>
                  <a:lnTo>
                    <a:pt x="428" y="402"/>
                  </a:lnTo>
                  <a:lnTo>
                    <a:pt x="431" y="388"/>
                  </a:lnTo>
                  <a:lnTo>
                    <a:pt x="435" y="373"/>
                  </a:lnTo>
                  <a:lnTo>
                    <a:pt x="439" y="361"/>
                  </a:lnTo>
                  <a:lnTo>
                    <a:pt x="445" y="350"/>
                  </a:lnTo>
                  <a:lnTo>
                    <a:pt x="451" y="340"/>
                  </a:lnTo>
                  <a:lnTo>
                    <a:pt x="460" y="331"/>
                  </a:lnTo>
                  <a:lnTo>
                    <a:pt x="468" y="321"/>
                  </a:lnTo>
                  <a:lnTo>
                    <a:pt x="477" y="313"/>
                  </a:lnTo>
                  <a:lnTo>
                    <a:pt x="486" y="307"/>
                  </a:lnTo>
                  <a:lnTo>
                    <a:pt x="497" y="300"/>
                  </a:lnTo>
                  <a:lnTo>
                    <a:pt x="508" y="295"/>
                  </a:lnTo>
                  <a:lnTo>
                    <a:pt x="520" y="290"/>
                  </a:lnTo>
                  <a:lnTo>
                    <a:pt x="532" y="286"/>
                  </a:lnTo>
                  <a:lnTo>
                    <a:pt x="544" y="282"/>
                  </a:lnTo>
                  <a:lnTo>
                    <a:pt x="558" y="278"/>
                  </a:lnTo>
                  <a:lnTo>
                    <a:pt x="572" y="276"/>
                  </a:lnTo>
                  <a:lnTo>
                    <a:pt x="586" y="273"/>
                  </a:lnTo>
                  <a:lnTo>
                    <a:pt x="600" y="272"/>
                  </a:lnTo>
                  <a:lnTo>
                    <a:pt x="630" y="269"/>
                  </a:lnTo>
                  <a:lnTo>
                    <a:pt x="661" y="268"/>
                  </a:lnTo>
                  <a:lnTo>
                    <a:pt x="724" y="268"/>
                  </a:lnTo>
                  <a:lnTo>
                    <a:pt x="786" y="268"/>
                  </a:lnTo>
                  <a:lnTo>
                    <a:pt x="1591" y="268"/>
                  </a:lnTo>
                  <a:lnTo>
                    <a:pt x="1591" y="0"/>
                  </a:lnTo>
                  <a:lnTo>
                    <a:pt x="700" y="0"/>
                  </a:lnTo>
                  <a:lnTo>
                    <a:pt x="632" y="0"/>
                  </a:lnTo>
                  <a:lnTo>
                    <a:pt x="563" y="1"/>
                  </a:lnTo>
                  <a:lnTo>
                    <a:pt x="528" y="2"/>
                  </a:lnTo>
                  <a:lnTo>
                    <a:pt x="493" y="4"/>
                  </a:lnTo>
                  <a:lnTo>
                    <a:pt x="459" y="7"/>
                  </a:lnTo>
                  <a:lnTo>
                    <a:pt x="425" y="10"/>
                  </a:lnTo>
                  <a:lnTo>
                    <a:pt x="391" y="15"/>
                  </a:lnTo>
                  <a:lnTo>
                    <a:pt x="357" y="22"/>
                  </a:lnTo>
                  <a:lnTo>
                    <a:pt x="325" y="30"/>
                  </a:lnTo>
                  <a:lnTo>
                    <a:pt x="293" y="40"/>
                  </a:lnTo>
                  <a:lnTo>
                    <a:pt x="278" y="46"/>
                  </a:lnTo>
                  <a:lnTo>
                    <a:pt x="263" y="52"/>
                  </a:lnTo>
                  <a:lnTo>
                    <a:pt x="247" y="58"/>
                  </a:lnTo>
                  <a:lnTo>
                    <a:pt x="233" y="65"/>
                  </a:lnTo>
                  <a:lnTo>
                    <a:pt x="218" y="73"/>
                  </a:lnTo>
                  <a:lnTo>
                    <a:pt x="203" y="81"/>
                  </a:lnTo>
                  <a:lnTo>
                    <a:pt x="190" y="90"/>
                  </a:lnTo>
                  <a:lnTo>
                    <a:pt x="176" y="100"/>
                  </a:lnTo>
                  <a:lnTo>
                    <a:pt x="155" y="115"/>
                  </a:lnTo>
                  <a:lnTo>
                    <a:pt x="137" y="133"/>
                  </a:lnTo>
                  <a:lnTo>
                    <a:pt x="119" y="151"/>
                  </a:lnTo>
                  <a:lnTo>
                    <a:pt x="101" y="170"/>
                  </a:lnTo>
                  <a:lnTo>
                    <a:pt x="86" y="191"/>
                  </a:lnTo>
                  <a:lnTo>
                    <a:pt x="72" y="211"/>
                  </a:lnTo>
                  <a:lnTo>
                    <a:pt x="58" y="234"/>
                  </a:lnTo>
                  <a:lnTo>
                    <a:pt x="46" y="256"/>
                  </a:lnTo>
                  <a:lnTo>
                    <a:pt x="36" y="278"/>
                  </a:lnTo>
                  <a:lnTo>
                    <a:pt x="27" y="302"/>
                  </a:lnTo>
                  <a:lnTo>
                    <a:pt x="19" y="325"/>
                  </a:lnTo>
                  <a:lnTo>
                    <a:pt x="11" y="350"/>
                  </a:lnTo>
                  <a:lnTo>
                    <a:pt x="6" y="373"/>
                  </a:lnTo>
                  <a:lnTo>
                    <a:pt x="3" y="397"/>
                  </a:lnTo>
                  <a:lnTo>
                    <a:pt x="0" y="420"/>
                  </a:lnTo>
                  <a:lnTo>
                    <a:pt x="0" y="444"/>
                  </a:lnTo>
                  <a:lnTo>
                    <a:pt x="0" y="458"/>
                  </a:lnTo>
                  <a:lnTo>
                    <a:pt x="1" y="473"/>
                  </a:lnTo>
                  <a:lnTo>
                    <a:pt x="2" y="488"/>
                  </a:lnTo>
                  <a:lnTo>
                    <a:pt x="4" y="503"/>
                  </a:lnTo>
                  <a:lnTo>
                    <a:pt x="7" y="518"/>
                  </a:lnTo>
                  <a:lnTo>
                    <a:pt x="10" y="533"/>
                  </a:lnTo>
                  <a:lnTo>
                    <a:pt x="14" y="547"/>
                  </a:lnTo>
                  <a:lnTo>
                    <a:pt x="19" y="562"/>
                  </a:lnTo>
                  <a:lnTo>
                    <a:pt x="24" y="577"/>
                  </a:lnTo>
                  <a:lnTo>
                    <a:pt x="29" y="591"/>
                  </a:lnTo>
                  <a:lnTo>
                    <a:pt x="35" y="605"/>
                  </a:lnTo>
                  <a:lnTo>
                    <a:pt x="41" y="619"/>
                  </a:lnTo>
                  <a:lnTo>
                    <a:pt x="48" y="634"/>
                  </a:lnTo>
                  <a:lnTo>
                    <a:pt x="56" y="647"/>
                  </a:lnTo>
                  <a:lnTo>
                    <a:pt x="65" y="660"/>
                  </a:lnTo>
                  <a:lnTo>
                    <a:pt x="73" y="674"/>
                  </a:lnTo>
                  <a:lnTo>
                    <a:pt x="83" y="687"/>
                  </a:lnTo>
                  <a:lnTo>
                    <a:pt x="92" y="699"/>
                  </a:lnTo>
                  <a:lnTo>
                    <a:pt x="102" y="711"/>
                  </a:lnTo>
                  <a:lnTo>
                    <a:pt x="114" y="723"/>
                  </a:lnTo>
                  <a:lnTo>
                    <a:pt x="125" y="735"/>
                  </a:lnTo>
                  <a:lnTo>
                    <a:pt x="137" y="746"/>
                  </a:lnTo>
                  <a:lnTo>
                    <a:pt x="149" y="756"/>
                  </a:lnTo>
                  <a:lnTo>
                    <a:pt x="162" y="766"/>
                  </a:lnTo>
                  <a:lnTo>
                    <a:pt x="176" y="777"/>
                  </a:lnTo>
                  <a:lnTo>
                    <a:pt x="190" y="786"/>
                  </a:lnTo>
                  <a:lnTo>
                    <a:pt x="204" y="794"/>
                  </a:lnTo>
                  <a:lnTo>
                    <a:pt x="220" y="802"/>
                  </a:lnTo>
                  <a:lnTo>
                    <a:pt x="235" y="810"/>
                  </a:lnTo>
                  <a:lnTo>
                    <a:pt x="251" y="817"/>
                  </a:lnTo>
                  <a:lnTo>
                    <a:pt x="268" y="824"/>
                  </a:lnTo>
                  <a:lnTo>
                    <a:pt x="284" y="830"/>
                  </a:lnTo>
                  <a:lnTo>
                    <a:pt x="303" y="836"/>
                  </a:lnTo>
                  <a:lnTo>
                    <a:pt x="324" y="841"/>
                  </a:lnTo>
                  <a:lnTo>
                    <a:pt x="344" y="845"/>
                  </a:lnTo>
                  <a:lnTo>
                    <a:pt x="365" y="849"/>
                  </a:lnTo>
                  <a:lnTo>
                    <a:pt x="407" y="856"/>
                  </a:lnTo>
                  <a:lnTo>
                    <a:pt x="451" y="862"/>
                  </a:lnTo>
                  <a:lnTo>
                    <a:pt x="496" y="865"/>
                  </a:lnTo>
                  <a:lnTo>
                    <a:pt x="539" y="868"/>
                  </a:lnTo>
                  <a:lnTo>
                    <a:pt x="582" y="869"/>
                  </a:lnTo>
                  <a:lnTo>
                    <a:pt x="622" y="869"/>
                  </a:lnTo>
                  <a:lnTo>
                    <a:pt x="954" y="869"/>
                  </a:lnTo>
                  <a:lnTo>
                    <a:pt x="985" y="871"/>
                  </a:lnTo>
                  <a:lnTo>
                    <a:pt x="1019" y="872"/>
                  </a:lnTo>
                  <a:lnTo>
                    <a:pt x="1035" y="873"/>
                  </a:lnTo>
                  <a:lnTo>
                    <a:pt x="1053" y="875"/>
                  </a:lnTo>
                  <a:lnTo>
                    <a:pt x="1069" y="877"/>
                  </a:lnTo>
                  <a:lnTo>
                    <a:pt x="1085" y="879"/>
                  </a:lnTo>
                  <a:lnTo>
                    <a:pt x="1102" y="883"/>
                  </a:lnTo>
                  <a:lnTo>
                    <a:pt x="1118" y="887"/>
                  </a:lnTo>
                  <a:lnTo>
                    <a:pt x="1133" y="891"/>
                  </a:lnTo>
                  <a:lnTo>
                    <a:pt x="1149" y="897"/>
                  </a:lnTo>
                  <a:lnTo>
                    <a:pt x="1163" y="903"/>
                  </a:lnTo>
                  <a:lnTo>
                    <a:pt x="1176" y="911"/>
                  </a:lnTo>
                  <a:lnTo>
                    <a:pt x="1189" y="920"/>
                  </a:lnTo>
                  <a:lnTo>
                    <a:pt x="1202" y="930"/>
                  </a:lnTo>
                  <a:lnTo>
                    <a:pt x="1216" y="943"/>
                  </a:lnTo>
                  <a:lnTo>
                    <a:pt x="1228" y="957"/>
                  </a:lnTo>
                  <a:lnTo>
                    <a:pt x="1239" y="973"/>
                  </a:lnTo>
                  <a:lnTo>
                    <a:pt x="1249" y="989"/>
                  </a:lnTo>
                  <a:lnTo>
                    <a:pt x="1253" y="997"/>
                  </a:lnTo>
                  <a:lnTo>
                    <a:pt x="1256" y="1005"/>
                  </a:lnTo>
                  <a:lnTo>
                    <a:pt x="1259" y="1014"/>
                  </a:lnTo>
                  <a:lnTo>
                    <a:pt x="1261" y="1023"/>
                  </a:lnTo>
                  <a:lnTo>
                    <a:pt x="1263" y="1032"/>
                  </a:lnTo>
                  <a:lnTo>
                    <a:pt x="1265" y="1041"/>
                  </a:lnTo>
                  <a:lnTo>
                    <a:pt x="1265" y="1050"/>
                  </a:lnTo>
                  <a:lnTo>
                    <a:pt x="1266" y="1059"/>
                  </a:lnTo>
                  <a:lnTo>
                    <a:pt x="1265" y="1075"/>
                  </a:lnTo>
                  <a:lnTo>
                    <a:pt x="1263" y="1090"/>
                  </a:lnTo>
                  <a:lnTo>
                    <a:pt x="1261" y="1103"/>
                  </a:lnTo>
                  <a:lnTo>
                    <a:pt x="1257" y="1117"/>
                  </a:lnTo>
                  <a:lnTo>
                    <a:pt x="1252" y="1128"/>
                  </a:lnTo>
                  <a:lnTo>
                    <a:pt x="1246" y="1139"/>
                  </a:lnTo>
                  <a:lnTo>
                    <a:pt x="1238" y="1149"/>
                  </a:lnTo>
                  <a:lnTo>
                    <a:pt x="1231" y="1158"/>
                  </a:lnTo>
                  <a:lnTo>
                    <a:pt x="1222" y="1168"/>
                  </a:lnTo>
                  <a:lnTo>
                    <a:pt x="1213" y="1176"/>
                  </a:lnTo>
                  <a:lnTo>
                    <a:pt x="1203" y="1183"/>
                  </a:lnTo>
                  <a:lnTo>
                    <a:pt x="1192" y="1190"/>
                  </a:lnTo>
                  <a:lnTo>
                    <a:pt x="1181" y="1196"/>
                  </a:lnTo>
                  <a:lnTo>
                    <a:pt x="1169" y="1201"/>
                  </a:lnTo>
                  <a:lnTo>
                    <a:pt x="1157" y="1206"/>
                  </a:lnTo>
                  <a:lnTo>
                    <a:pt x="1143" y="1210"/>
                  </a:lnTo>
                  <a:lnTo>
                    <a:pt x="1130" y="1215"/>
                  </a:lnTo>
                  <a:lnTo>
                    <a:pt x="1116" y="1218"/>
                  </a:lnTo>
                  <a:lnTo>
                    <a:pt x="1102" y="1221"/>
                  </a:lnTo>
                  <a:lnTo>
                    <a:pt x="1087" y="1224"/>
                  </a:lnTo>
                  <a:lnTo>
                    <a:pt x="1058" y="1228"/>
                  </a:lnTo>
                  <a:lnTo>
                    <a:pt x="1027" y="1230"/>
                  </a:lnTo>
                  <a:lnTo>
                    <a:pt x="997" y="1232"/>
                  </a:lnTo>
                  <a:lnTo>
                    <a:pt x="967" y="1233"/>
                  </a:lnTo>
                  <a:lnTo>
                    <a:pt x="937" y="1233"/>
                  </a:lnTo>
                  <a:lnTo>
                    <a:pt x="908" y="1233"/>
                  </a:lnTo>
                  <a:lnTo>
                    <a:pt x="87" y="1233"/>
                  </a:lnTo>
                  <a:lnTo>
                    <a:pt x="87" y="1500"/>
                  </a:lnTo>
                  <a:lnTo>
                    <a:pt x="991" y="1500"/>
                  </a:lnTo>
                  <a:lnTo>
                    <a:pt x="1073" y="1500"/>
                  </a:lnTo>
                  <a:lnTo>
                    <a:pt x="1154" y="1499"/>
                  </a:lnTo>
                  <a:lnTo>
                    <a:pt x="1192" y="1498"/>
                  </a:lnTo>
                  <a:lnTo>
                    <a:pt x="1231" y="1496"/>
                  </a:lnTo>
                  <a:lnTo>
                    <a:pt x="1270" y="1492"/>
                  </a:lnTo>
                  <a:lnTo>
                    <a:pt x="1308" y="1487"/>
                  </a:lnTo>
                  <a:lnTo>
                    <a:pt x="1326" y="1483"/>
                  </a:lnTo>
                  <a:lnTo>
                    <a:pt x="1345" y="1480"/>
                  </a:lnTo>
                  <a:lnTo>
                    <a:pt x="1363" y="1475"/>
                  </a:lnTo>
                  <a:lnTo>
                    <a:pt x="1380" y="1471"/>
                  </a:lnTo>
                  <a:lnTo>
                    <a:pt x="1399" y="1465"/>
                  </a:lnTo>
                  <a:lnTo>
                    <a:pt x="1416" y="1458"/>
                  </a:lnTo>
                  <a:lnTo>
                    <a:pt x="1433" y="1452"/>
                  </a:lnTo>
                  <a:lnTo>
                    <a:pt x="1450" y="1445"/>
                  </a:lnTo>
                  <a:lnTo>
                    <a:pt x="1466" y="1437"/>
                  </a:lnTo>
                  <a:lnTo>
                    <a:pt x="1482" y="1428"/>
                  </a:lnTo>
                  <a:lnTo>
                    <a:pt x="1499" y="1418"/>
                  </a:lnTo>
                  <a:lnTo>
                    <a:pt x="1515" y="1407"/>
                  </a:lnTo>
                  <a:lnTo>
                    <a:pt x="1530" y="1396"/>
                  </a:lnTo>
                  <a:lnTo>
                    <a:pt x="1546" y="1384"/>
                  </a:lnTo>
                  <a:lnTo>
                    <a:pt x="1560" y="1371"/>
                  </a:lnTo>
                  <a:lnTo>
                    <a:pt x="1574" y="1357"/>
                  </a:lnTo>
                  <a:lnTo>
                    <a:pt x="1588" y="1341"/>
                  </a:lnTo>
                  <a:lnTo>
                    <a:pt x="1603" y="1325"/>
                  </a:lnTo>
                  <a:lnTo>
                    <a:pt x="1615" y="1307"/>
                  </a:lnTo>
                  <a:lnTo>
                    <a:pt x="1626" y="1290"/>
                  </a:lnTo>
                  <a:lnTo>
                    <a:pt x="1637" y="1272"/>
                  </a:lnTo>
                  <a:lnTo>
                    <a:pt x="1647" y="1253"/>
                  </a:lnTo>
                  <a:lnTo>
                    <a:pt x="1656" y="1235"/>
                  </a:lnTo>
                  <a:lnTo>
                    <a:pt x="1663" y="1216"/>
                  </a:lnTo>
                  <a:lnTo>
                    <a:pt x="1670" y="1196"/>
                  </a:lnTo>
                  <a:lnTo>
                    <a:pt x="1675" y="1177"/>
                  </a:lnTo>
                  <a:lnTo>
                    <a:pt x="1680" y="1157"/>
                  </a:lnTo>
                  <a:lnTo>
                    <a:pt x="1684" y="1137"/>
                  </a:lnTo>
                  <a:lnTo>
                    <a:pt x="1687" y="1118"/>
                  </a:lnTo>
                  <a:lnTo>
                    <a:pt x="1690" y="1097"/>
                  </a:lnTo>
                  <a:lnTo>
                    <a:pt x="1692" y="1078"/>
                  </a:lnTo>
                  <a:lnTo>
                    <a:pt x="1692" y="10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50" name="Freeform 917"/>
            <p:cNvSpPr/>
            <p:nvPr/>
          </p:nvSpPr>
          <p:spPr>
            <a:xfrm>
              <a:off x="6900840" y="5734080"/>
              <a:ext cx="223920" cy="19836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693" h="1500">
                  <a:moveTo>
                    <a:pt x="1693" y="1058"/>
                  </a:moveTo>
                  <a:lnTo>
                    <a:pt x="1692" y="1029"/>
                  </a:lnTo>
                  <a:lnTo>
                    <a:pt x="1690" y="999"/>
                  </a:lnTo>
                  <a:lnTo>
                    <a:pt x="1686" y="970"/>
                  </a:lnTo>
                  <a:lnTo>
                    <a:pt x="1680" y="940"/>
                  </a:lnTo>
                  <a:lnTo>
                    <a:pt x="1672" y="911"/>
                  </a:lnTo>
                  <a:lnTo>
                    <a:pt x="1663" y="883"/>
                  </a:lnTo>
                  <a:lnTo>
                    <a:pt x="1657" y="868"/>
                  </a:lnTo>
                  <a:lnTo>
                    <a:pt x="1650" y="855"/>
                  </a:lnTo>
                  <a:lnTo>
                    <a:pt x="1644" y="842"/>
                  </a:lnTo>
                  <a:lnTo>
                    <a:pt x="1637" y="828"/>
                  </a:lnTo>
                  <a:lnTo>
                    <a:pt x="1629" y="815"/>
                  </a:lnTo>
                  <a:lnTo>
                    <a:pt x="1621" y="802"/>
                  </a:lnTo>
                  <a:lnTo>
                    <a:pt x="1613" y="790"/>
                  </a:lnTo>
                  <a:lnTo>
                    <a:pt x="1603" y="778"/>
                  </a:lnTo>
                  <a:lnTo>
                    <a:pt x="1593" y="765"/>
                  </a:lnTo>
                  <a:lnTo>
                    <a:pt x="1583" y="753"/>
                  </a:lnTo>
                  <a:lnTo>
                    <a:pt x="1572" y="742"/>
                  </a:lnTo>
                  <a:lnTo>
                    <a:pt x="1561" y="732"/>
                  </a:lnTo>
                  <a:lnTo>
                    <a:pt x="1548" y="721"/>
                  </a:lnTo>
                  <a:lnTo>
                    <a:pt x="1536" y="711"/>
                  </a:lnTo>
                  <a:lnTo>
                    <a:pt x="1523" y="701"/>
                  </a:lnTo>
                  <a:lnTo>
                    <a:pt x="1509" y="692"/>
                  </a:lnTo>
                  <a:lnTo>
                    <a:pt x="1494" y="684"/>
                  </a:lnTo>
                  <a:lnTo>
                    <a:pt x="1479" y="676"/>
                  </a:lnTo>
                  <a:lnTo>
                    <a:pt x="1464" y="667"/>
                  </a:lnTo>
                  <a:lnTo>
                    <a:pt x="1447" y="661"/>
                  </a:lnTo>
                  <a:lnTo>
                    <a:pt x="1423" y="651"/>
                  </a:lnTo>
                  <a:lnTo>
                    <a:pt x="1398" y="643"/>
                  </a:lnTo>
                  <a:lnTo>
                    <a:pt x="1374" y="636"/>
                  </a:lnTo>
                  <a:lnTo>
                    <a:pt x="1349" y="630"/>
                  </a:lnTo>
                  <a:lnTo>
                    <a:pt x="1325" y="625"/>
                  </a:lnTo>
                  <a:lnTo>
                    <a:pt x="1299" y="619"/>
                  </a:lnTo>
                  <a:lnTo>
                    <a:pt x="1275" y="616"/>
                  </a:lnTo>
                  <a:lnTo>
                    <a:pt x="1249" y="612"/>
                  </a:lnTo>
                  <a:lnTo>
                    <a:pt x="1198" y="608"/>
                  </a:lnTo>
                  <a:lnTo>
                    <a:pt x="1147" y="606"/>
                  </a:lnTo>
                  <a:lnTo>
                    <a:pt x="1095" y="605"/>
                  </a:lnTo>
                  <a:lnTo>
                    <a:pt x="1043" y="604"/>
                  </a:lnTo>
                  <a:lnTo>
                    <a:pt x="755" y="604"/>
                  </a:lnTo>
                  <a:lnTo>
                    <a:pt x="728" y="604"/>
                  </a:lnTo>
                  <a:lnTo>
                    <a:pt x="699" y="604"/>
                  </a:lnTo>
                  <a:lnTo>
                    <a:pt x="671" y="603"/>
                  </a:lnTo>
                  <a:lnTo>
                    <a:pt x="642" y="601"/>
                  </a:lnTo>
                  <a:lnTo>
                    <a:pt x="614" y="598"/>
                  </a:lnTo>
                  <a:lnTo>
                    <a:pt x="587" y="594"/>
                  </a:lnTo>
                  <a:lnTo>
                    <a:pt x="560" y="588"/>
                  </a:lnTo>
                  <a:lnTo>
                    <a:pt x="536" y="581"/>
                  </a:lnTo>
                  <a:lnTo>
                    <a:pt x="524" y="576"/>
                  </a:lnTo>
                  <a:lnTo>
                    <a:pt x="512" y="570"/>
                  </a:lnTo>
                  <a:lnTo>
                    <a:pt x="502" y="565"/>
                  </a:lnTo>
                  <a:lnTo>
                    <a:pt x="492" y="559"/>
                  </a:lnTo>
                  <a:lnTo>
                    <a:pt x="482" y="553"/>
                  </a:lnTo>
                  <a:lnTo>
                    <a:pt x="472" y="546"/>
                  </a:lnTo>
                  <a:lnTo>
                    <a:pt x="464" y="538"/>
                  </a:lnTo>
                  <a:lnTo>
                    <a:pt x="456" y="530"/>
                  </a:lnTo>
                  <a:lnTo>
                    <a:pt x="450" y="520"/>
                  </a:lnTo>
                  <a:lnTo>
                    <a:pt x="444" y="510"/>
                  </a:lnTo>
                  <a:lnTo>
                    <a:pt x="438" y="499"/>
                  </a:lnTo>
                  <a:lnTo>
                    <a:pt x="434" y="488"/>
                  </a:lnTo>
                  <a:lnTo>
                    <a:pt x="431" y="475"/>
                  </a:lnTo>
                  <a:lnTo>
                    <a:pt x="428" y="463"/>
                  </a:lnTo>
                  <a:lnTo>
                    <a:pt x="427" y="449"/>
                  </a:lnTo>
                  <a:lnTo>
                    <a:pt x="426" y="434"/>
                  </a:lnTo>
                  <a:lnTo>
                    <a:pt x="427" y="417"/>
                  </a:lnTo>
                  <a:lnTo>
                    <a:pt x="428" y="402"/>
                  </a:lnTo>
                  <a:lnTo>
                    <a:pt x="431" y="388"/>
                  </a:lnTo>
                  <a:lnTo>
                    <a:pt x="435" y="373"/>
                  </a:lnTo>
                  <a:lnTo>
                    <a:pt x="439" y="361"/>
                  </a:lnTo>
                  <a:lnTo>
                    <a:pt x="445" y="350"/>
                  </a:lnTo>
                  <a:lnTo>
                    <a:pt x="452" y="340"/>
                  </a:lnTo>
                  <a:lnTo>
                    <a:pt x="459" y="331"/>
                  </a:lnTo>
                  <a:lnTo>
                    <a:pt x="467" y="321"/>
                  </a:lnTo>
                  <a:lnTo>
                    <a:pt x="477" y="313"/>
                  </a:lnTo>
                  <a:lnTo>
                    <a:pt x="487" y="307"/>
                  </a:lnTo>
                  <a:lnTo>
                    <a:pt x="497" y="300"/>
                  </a:lnTo>
                  <a:lnTo>
                    <a:pt x="508" y="295"/>
                  </a:lnTo>
                  <a:lnTo>
                    <a:pt x="519" y="290"/>
                  </a:lnTo>
                  <a:lnTo>
                    <a:pt x="533" y="286"/>
                  </a:lnTo>
                  <a:lnTo>
                    <a:pt x="545" y="282"/>
                  </a:lnTo>
                  <a:lnTo>
                    <a:pt x="558" y="278"/>
                  </a:lnTo>
                  <a:lnTo>
                    <a:pt x="573" y="276"/>
                  </a:lnTo>
                  <a:lnTo>
                    <a:pt x="587" y="273"/>
                  </a:lnTo>
                  <a:lnTo>
                    <a:pt x="601" y="272"/>
                  </a:lnTo>
                  <a:lnTo>
                    <a:pt x="631" y="269"/>
                  </a:lnTo>
                  <a:lnTo>
                    <a:pt x="661" y="268"/>
                  </a:lnTo>
                  <a:lnTo>
                    <a:pt x="725" y="268"/>
                  </a:lnTo>
                  <a:lnTo>
                    <a:pt x="788" y="268"/>
                  </a:lnTo>
                  <a:lnTo>
                    <a:pt x="1590" y="268"/>
                  </a:lnTo>
                  <a:lnTo>
                    <a:pt x="1590" y="0"/>
                  </a:lnTo>
                  <a:lnTo>
                    <a:pt x="700" y="0"/>
                  </a:lnTo>
                  <a:lnTo>
                    <a:pt x="633" y="0"/>
                  </a:lnTo>
                  <a:lnTo>
                    <a:pt x="563" y="1"/>
                  </a:lnTo>
                  <a:lnTo>
                    <a:pt x="529" y="2"/>
                  </a:lnTo>
                  <a:lnTo>
                    <a:pt x="494" y="4"/>
                  </a:lnTo>
                  <a:lnTo>
                    <a:pt x="459" y="7"/>
                  </a:lnTo>
                  <a:lnTo>
                    <a:pt x="426" y="10"/>
                  </a:lnTo>
                  <a:lnTo>
                    <a:pt x="392" y="15"/>
                  </a:lnTo>
                  <a:lnTo>
                    <a:pt x="358" y="22"/>
                  </a:lnTo>
                  <a:lnTo>
                    <a:pt x="325" y="30"/>
                  </a:lnTo>
                  <a:lnTo>
                    <a:pt x="294" y="40"/>
                  </a:lnTo>
                  <a:lnTo>
                    <a:pt x="279" y="46"/>
                  </a:lnTo>
                  <a:lnTo>
                    <a:pt x="263" y="52"/>
                  </a:lnTo>
                  <a:lnTo>
                    <a:pt x="248" y="58"/>
                  </a:lnTo>
                  <a:lnTo>
                    <a:pt x="233" y="65"/>
                  </a:lnTo>
                  <a:lnTo>
                    <a:pt x="218" y="73"/>
                  </a:lnTo>
                  <a:lnTo>
                    <a:pt x="204" y="81"/>
                  </a:lnTo>
                  <a:lnTo>
                    <a:pt x="190" y="90"/>
                  </a:lnTo>
                  <a:lnTo>
                    <a:pt x="176" y="100"/>
                  </a:lnTo>
                  <a:lnTo>
                    <a:pt x="156" y="115"/>
                  </a:lnTo>
                  <a:lnTo>
                    <a:pt x="137" y="133"/>
                  </a:lnTo>
                  <a:lnTo>
                    <a:pt x="119" y="151"/>
                  </a:lnTo>
                  <a:lnTo>
                    <a:pt x="102" y="170"/>
                  </a:lnTo>
                  <a:lnTo>
                    <a:pt x="87" y="191"/>
                  </a:lnTo>
                  <a:lnTo>
                    <a:pt x="71" y="211"/>
                  </a:lnTo>
                  <a:lnTo>
                    <a:pt x="58" y="234"/>
                  </a:lnTo>
                  <a:lnTo>
                    <a:pt x="46" y="256"/>
                  </a:lnTo>
                  <a:lnTo>
                    <a:pt x="36" y="278"/>
                  </a:lnTo>
                  <a:lnTo>
                    <a:pt x="26" y="302"/>
                  </a:lnTo>
                  <a:lnTo>
                    <a:pt x="18" y="325"/>
                  </a:lnTo>
                  <a:lnTo>
                    <a:pt x="11" y="350"/>
                  </a:lnTo>
                  <a:lnTo>
                    <a:pt x="6" y="373"/>
                  </a:lnTo>
                  <a:lnTo>
                    <a:pt x="3" y="397"/>
                  </a:lnTo>
                  <a:lnTo>
                    <a:pt x="0" y="420"/>
                  </a:lnTo>
                  <a:lnTo>
                    <a:pt x="0" y="444"/>
                  </a:lnTo>
                  <a:lnTo>
                    <a:pt x="0" y="458"/>
                  </a:lnTo>
                  <a:lnTo>
                    <a:pt x="1" y="473"/>
                  </a:lnTo>
                  <a:lnTo>
                    <a:pt x="2" y="488"/>
                  </a:lnTo>
                  <a:lnTo>
                    <a:pt x="4" y="503"/>
                  </a:lnTo>
                  <a:lnTo>
                    <a:pt x="7" y="518"/>
                  </a:lnTo>
                  <a:lnTo>
                    <a:pt x="10" y="533"/>
                  </a:lnTo>
                  <a:lnTo>
                    <a:pt x="14" y="547"/>
                  </a:lnTo>
                  <a:lnTo>
                    <a:pt x="18" y="562"/>
                  </a:lnTo>
                  <a:lnTo>
                    <a:pt x="23" y="577"/>
                  </a:lnTo>
                  <a:lnTo>
                    <a:pt x="28" y="591"/>
                  </a:lnTo>
                  <a:lnTo>
                    <a:pt x="35" y="605"/>
                  </a:lnTo>
                  <a:lnTo>
                    <a:pt x="42" y="619"/>
                  </a:lnTo>
                  <a:lnTo>
                    <a:pt x="49" y="634"/>
                  </a:lnTo>
                  <a:lnTo>
                    <a:pt x="56" y="647"/>
                  </a:lnTo>
                  <a:lnTo>
                    <a:pt x="64" y="660"/>
                  </a:lnTo>
                  <a:lnTo>
                    <a:pt x="73" y="674"/>
                  </a:lnTo>
                  <a:lnTo>
                    <a:pt x="83" y="687"/>
                  </a:lnTo>
                  <a:lnTo>
                    <a:pt x="93" y="699"/>
                  </a:lnTo>
                  <a:lnTo>
                    <a:pt x="103" y="711"/>
                  </a:lnTo>
                  <a:lnTo>
                    <a:pt x="114" y="723"/>
                  </a:lnTo>
                  <a:lnTo>
                    <a:pt x="125" y="735"/>
                  </a:lnTo>
                  <a:lnTo>
                    <a:pt x="138" y="746"/>
                  </a:lnTo>
                  <a:lnTo>
                    <a:pt x="150" y="756"/>
                  </a:lnTo>
                  <a:lnTo>
                    <a:pt x="163" y="766"/>
                  </a:lnTo>
                  <a:lnTo>
                    <a:pt x="176" y="777"/>
                  </a:lnTo>
                  <a:lnTo>
                    <a:pt x="191" y="786"/>
                  </a:lnTo>
                  <a:lnTo>
                    <a:pt x="205" y="794"/>
                  </a:lnTo>
                  <a:lnTo>
                    <a:pt x="220" y="802"/>
                  </a:lnTo>
                  <a:lnTo>
                    <a:pt x="236" y="810"/>
                  </a:lnTo>
                  <a:lnTo>
                    <a:pt x="252" y="817"/>
                  </a:lnTo>
                  <a:lnTo>
                    <a:pt x="268" y="824"/>
                  </a:lnTo>
                  <a:lnTo>
                    <a:pt x="286" y="830"/>
                  </a:lnTo>
                  <a:lnTo>
                    <a:pt x="305" y="836"/>
                  </a:lnTo>
                  <a:lnTo>
                    <a:pt x="324" y="841"/>
                  </a:lnTo>
                  <a:lnTo>
                    <a:pt x="345" y="845"/>
                  </a:lnTo>
                  <a:lnTo>
                    <a:pt x="365" y="849"/>
                  </a:lnTo>
                  <a:lnTo>
                    <a:pt x="408" y="856"/>
                  </a:lnTo>
                  <a:lnTo>
                    <a:pt x="452" y="862"/>
                  </a:lnTo>
                  <a:lnTo>
                    <a:pt x="496" y="865"/>
                  </a:lnTo>
                  <a:lnTo>
                    <a:pt x="540" y="868"/>
                  </a:lnTo>
                  <a:lnTo>
                    <a:pt x="583" y="869"/>
                  </a:lnTo>
                  <a:lnTo>
                    <a:pt x="624" y="869"/>
                  </a:lnTo>
                  <a:lnTo>
                    <a:pt x="953" y="869"/>
                  </a:lnTo>
                  <a:lnTo>
                    <a:pt x="985" y="871"/>
                  </a:lnTo>
                  <a:lnTo>
                    <a:pt x="1019" y="872"/>
                  </a:lnTo>
                  <a:lnTo>
                    <a:pt x="1036" y="873"/>
                  </a:lnTo>
                  <a:lnTo>
                    <a:pt x="1052" y="875"/>
                  </a:lnTo>
                  <a:lnTo>
                    <a:pt x="1069" y="877"/>
                  </a:lnTo>
                  <a:lnTo>
                    <a:pt x="1086" y="879"/>
                  </a:lnTo>
                  <a:lnTo>
                    <a:pt x="1102" y="883"/>
                  </a:lnTo>
                  <a:lnTo>
                    <a:pt x="1118" y="887"/>
                  </a:lnTo>
                  <a:lnTo>
                    <a:pt x="1133" y="891"/>
                  </a:lnTo>
                  <a:lnTo>
                    <a:pt x="1148" y="897"/>
                  </a:lnTo>
                  <a:lnTo>
                    <a:pt x="1163" y="903"/>
                  </a:lnTo>
                  <a:lnTo>
                    <a:pt x="1176" y="911"/>
                  </a:lnTo>
                  <a:lnTo>
                    <a:pt x="1189" y="920"/>
                  </a:lnTo>
                  <a:lnTo>
                    <a:pt x="1200" y="930"/>
                  </a:lnTo>
                  <a:lnTo>
                    <a:pt x="1216" y="943"/>
                  </a:lnTo>
                  <a:lnTo>
                    <a:pt x="1229" y="957"/>
                  </a:lnTo>
                  <a:lnTo>
                    <a:pt x="1235" y="964"/>
                  </a:lnTo>
                  <a:lnTo>
                    <a:pt x="1240" y="973"/>
                  </a:lnTo>
                  <a:lnTo>
                    <a:pt x="1245" y="981"/>
                  </a:lnTo>
                  <a:lnTo>
                    <a:pt x="1249" y="989"/>
                  </a:lnTo>
                  <a:lnTo>
                    <a:pt x="1253" y="997"/>
                  </a:lnTo>
                  <a:lnTo>
                    <a:pt x="1256" y="1005"/>
                  </a:lnTo>
                  <a:lnTo>
                    <a:pt x="1259" y="1014"/>
                  </a:lnTo>
                  <a:lnTo>
                    <a:pt x="1263" y="1023"/>
                  </a:lnTo>
                  <a:lnTo>
                    <a:pt x="1265" y="1032"/>
                  </a:lnTo>
                  <a:lnTo>
                    <a:pt x="1266" y="1041"/>
                  </a:lnTo>
                  <a:lnTo>
                    <a:pt x="1267" y="1050"/>
                  </a:lnTo>
                  <a:lnTo>
                    <a:pt x="1267" y="1059"/>
                  </a:lnTo>
                  <a:lnTo>
                    <a:pt x="1266" y="1075"/>
                  </a:lnTo>
                  <a:lnTo>
                    <a:pt x="1265" y="1090"/>
                  </a:lnTo>
                  <a:lnTo>
                    <a:pt x="1262" y="1103"/>
                  </a:lnTo>
                  <a:lnTo>
                    <a:pt x="1257" y="1117"/>
                  </a:lnTo>
                  <a:lnTo>
                    <a:pt x="1252" y="1128"/>
                  </a:lnTo>
                  <a:lnTo>
                    <a:pt x="1246" y="1139"/>
                  </a:lnTo>
                  <a:lnTo>
                    <a:pt x="1240" y="1149"/>
                  </a:lnTo>
                  <a:lnTo>
                    <a:pt x="1232" y="1158"/>
                  </a:lnTo>
                  <a:lnTo>
                    <a:pt x="1224" y="1168"/>
                  </a:lnTo>
                  <a:lnTo>
                    <a:pt x="1214" y="1176"/>
                  </a:lnTo>
                  <a:lnTo>
                    <a:pt x="1204" y="1183"/>
                  </a:lnTo>
                  <a:lnTo>
                    <a:pt x="1193" y="1190"/>
                  </a:lnTo>
                  <a:lnTo>
                    <a:pt x="1182" y="1196"/>
                  </a:lnTo>
                  <a:lnTo>
                    <a:pt x="1170" y="1201"/>
                  </a:lnTo>
                  <a:lnTo>
                    <a:pt x="1157" y="1206"/>
                  </a:lnTo>
                  <a:lnTo>
                    <a:pt x="1144" y="1210"/>
                  </a:lnTo>
                  <a:lnTo>
                    <a:pt x="1131" y="1215"/>
                  </a:lnTo>
                  <a:lnTo>
                    <a:pt x="1117" y="1218"/>
                  </a:lnTo>
                  <a:lnTo>
                    <a:pt x="1102" y="1221"/>
                  </a:lnTo>
                  <a:lnTo>
                    <a:pt x="1088" y="1224"/>
                  </a:lnTo>
                  <a:lnTo>
                    <a:pt x="1058" y="1228"/>
                  </a:lnTo>
                  <a:lnTo>
                    <a:pt x="1028" y="1230"/>
                  </a:lnTo>
                  <a:lnTo>
                    <a:pt x="997" y="1232"/>
                  </a:lnTo>
                  <a:lnTo>
                    <a:pt x="967" y="1233"/>
                  </a:lnTo>
                  <a:lnTo>
                    <a:pt x="937" y="1233"/>
                  </a:lnTo>
                  <a:lnTo>
                    <a:pt x="908" y="1233"/>
                  </a:lnTo>
                  <a:lnTo>
                    <a:pt x="87" y="1233"/>
                  </a:lnTo>
                  <a:lnTo>
                    <a:pt x="87" y="1500"/>
                  </a:lnTo>
                  <a:lnTo>
                    <a:pt x="992" y="1500"/>
                  </a:lnTo>
                  <a:lnTo>
                    <a:pt x="1073" y="1500"/>
                  </a:lnTo>
                  <a:lnTo>
                    <a:pt x="1153" y="1499"/>
                  </a:lnTo>
                  <a:lnTo>
                    <a:pt x="1192" y="1498"/>
                  </a:lnTo>
                  <a:lnTo>
                    <a:pt x="1232" y="1496"/>
                  </a:lnTo>
                  <a:lnTo>
                    <a:pt x="1270" y="1492"/>
                  </a:lnTo>
                  <a:lnTo>
                    <a:pt x="1307" y="1487"/>
                  </a:lnTo>
                  <a:lnTo>
                    <a:pt x="1326" y="1483"/>
                  </a:lnTo>
                  <a:lnTo>
                    <a:pt x="1344" y="1480"/>
                  </a:lnTo>
                  <a:lnTo>
                    <a:pt x="1363" y="1475"/>
                  </a:lnTo>
                  <a:lnTo>
                    <a:pt x="1381" y="1471"/>
                  </a:lnTo>
                  <a:lnTo>
                    <a:pt x="1398" y="1465"/>
                  </a:lnTo>
                  <a:lnTo>
                    <a:pt x="1416" y="1458"/>
                  </a:lnTo>
                  <a:lnTo>
                    <a:pt x="1433" y="1452"/>
                  </a:lnTo>
                  <a:lnTo>
                    <a:pt x="1449" y="1445"/>
                  </a:lnTo>
                  <a:lnTo>
                    <a:pt x="1467" y="1437"/>
                  </a:lnTo>
                  <a:lnTo>
                    <a:pt x="1483" y="1428"/>
                  </a:lnTo>
                  <a:lnTo>
                    <a:pt x="1498" y="1418"/>
                  </a:lnTo>
                  <a:lnTo>
                    <a:pt x="1515" y="1407"/>
                  </a:lnTo>
                  <a:lnTo>
                    <a:pt x="1530" y="1396"/>
                  </a:lnTo>
                  <a:lnTo>
                    <a:pt x="1545" y="1384"/>
                  </a:lnTo>
                  <a:lnTo>
                    <a:pt x="1560" y="1371"/>
                  </a:lnTo>
                  <a:lnTo>
                    <a:pt x="1574" y="1357"/>
                  </a:lnTo>
                  <a:lnTo>
                    <a:pt x="1588" y="1341"/>
                  </a:lnTo>
                  <a:lnTo>
                    <a:pt x="1602" y="1325"/>
                  </a:lnTo>
                  <a:lnTo>
                    <a:pt x="1615" y="1307"/>
                  </a:lnTo>
                  <a:lnTo>
                    <a:pt x="1627" y="1290"/>
                  </a:lnTo>
                  <a:lnTo>
                    <a:pt x="1637" y="1272"/>
                  </a:lnTo>
                  <a:lnTo>
                    <a:pt x="1647" y="1253"/>
                  </a:lnTo>
                  <a:lnTo>
                    <a:pt x="1656" y="1235"/>
                  </a:lnTo>
                  <a:lnTo>
                    <a:pt x="1664" y="1216"/>
                  </a:lnTo>
                  <a:lnTo>
                    <a:pt x="1671" y="1196"/>
                  </a:lnTo>
                  <a:lnTo>
                    <a:pt x="1677" y="1177"/>
                  </a:lnTo>
                  <a:lnTo>
                    <a:pt x="1682" y="1157"/>
                  </a:lnTo>
                  <a:lnTo>
                    <a:pt x="1686" y="1137"/>
                  </a:lnTo>
                  <a:lnTo>
                    <a:pt x="1689" y="1118"/>
                  </a:lnTo>
                  <a:lnTo>
                    <a:pt x="1691" y="1097"/>
                  </a:lnTo>
                  <a:lnTo>
                    <a:pt x="1692" y="1078"/>
                  </a:lnTo>
                  <a:lnTo>
                    <a:pt x="1693" y="10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51" name="Freeform 918"/>
            <p:cNvSpPr/>
            <p:nvPr/>
          </p:nvSpPr>
          <p:spPr>
            <a:xfrm>
              <a:off x="7155000" y="5734080"/>
              <a:ext cx="191880" cy="19836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448" h="1500">
                  <a:moveTo>
                    <a:pt x="1448" y="1500"/>
                  </a:moveTo>
                  <a:lnTo>
                    <a:pt x="1448" y="1233"/>
                  </a:lnTo>
                  <a:lnTo>
                    <a:pt x="964" y="1233"/>
                  </a:lnTo>
                  <a:lnTo>
                    <a:pt x="905" y="1233"/>
                  </a:lnTo>
                  <a:lnTo>
                    <a:pt x="850" y="1230"/>
                  </a:lnTo>
                  <a:lnTo>
                    <a:pt x="825" y="1229"/>
                  </a:lnTo>
                  <a:lnTo>
                    <a:pt x="799" y="1226"/>
                  </a:lnTo>
                  <a:lnTo>
                    <a:pt x="775" y="1223"/>
                  </a:lnTo>
                  <a:lnTo>
                    <a:pt x="750" y="1220"/>
                  </a:lnTo>
                  <a:lnTo>
                    <a:pt x="728" y="1216"/>
                  </a:lnTo>
                  <a:lnTo>
                    <a:pt x="705" y="1210"/>
                  </a:lnTo>
                  <a:lnTo>
                    <a:pt x="684" y="1205"/>
                  </a:lnTo>
                  <a:lnTo>
                    <a:pt x="663" y="1199"/>
                  </a:lnTo>
                  <a:lnTo>
                    <a:pt x="644" y="1193"/>
                  </a:lnTo>
                  <a:lnTo>
                    <a:pt x="626" y="1185"/>
                  </a:lnTo>
                  <a:lnTo>
                    <a:pt x="608" y="1177"/>
                  </a:lnTo>
                  <a:lnTo>
                    <a:pt x="591" y="1168"/>
                  </a:lnTo>
                  <a:lnTo>
                    <a:pt x="575" y="1157"/>
                  </a:lnTo>
                  <a:lnTo>
                    <a:pt x="559" y="1147"/>
                  </a:lnTo>
                  <a:lnTo>
                    <a:pt x="545" y="1135"/>
                  </a:lnTo>
                  <a:lnTo>
                    <a:pt x="532" y="1123"/>
                  </a:lnTo>
                  <a:lnTo>
                    <a:pt x="519" y="1108"/>
                  </a:lnTo>
                  <a:lnTo>
                    <a:pt x="506" y="1094"/>
                  </a:lnTo>
                  <a:lnTo>
                    <a:pt x="496" y="1079"/>
                  </a:lnTo>
                  <a:lnTo>
                    <a:pt x="486" y="1061"/>
                  </a:lnTo>
                  <a:lnTo>
                    <a:pt x="476" y="1044"/>
                  </a:lnTo>
                  <a:lnTo>
                    <a:pt x="467" y="1025"/>
                  </a:lnTo>
                  <a:lnTo>
                    <a:pt x="460" y="1005"/>
                  </a:lnTo>
                  <a:lnTo>
                    <a:pt x="453" y="984"/>
                  </a:lnTo>
                  <a:lnTo>
                    <a:pt x="447" y="961"/>
                  </a:lnTo>
                  <a:lnTo>
                    <a:pt x="442" y="938"/>
                  </a:lnTo>
                  <a:lnTo>
                    <a:pt x="438" y="912"/>
                  </a:lnTo>
                  <a:lnTo>
                    <a:pt x="435" y="886"/>
                  </a:lnTo>
                  <a:lnTo>
                    <a:pt x="1448" y="886"/>
                  </a:lnTo>
                  <a:lnTo>
                    <a:pt x="1448" y="620"/>
                  </a:lnTo>
                  <a:lnTo>
                    <a:pt x="435" y="620"/>
                  </a:lnTo>
                  <a:lnTo>
                    <a:pt x="439" y="589"/>
                  </a:lnTo>
                  <a:lnTo>
                    <a:pt x="443" y="556"/>
                  </a:lnTo>
                  <a:lnTo>
                    <a:pt x="448" y="524"/>
                  </a:lnTo>
                  <a:lnTo>
                    <a:pt x="455" y="493"/>
                  </a:lnTo>
                  <a:lnTo>
                    <a:pt x="459" y="478"/>
                  </a:lnTo>
                  <a:lnTo>
                    <a:pt x="464" y="462"/>
                  </a:lnTo>
                  <a:lnTo>
                    <a:pt x="471" y="448"/>
                  </a:lnTo>
                  <a:lnTo>
                    <a:pt x="478" y="433"/>
                  </a:lnTo>
                  <a:lnTo>
                    <a:pt x="486" y="418"/>
                  </a:lnTo>
                  <a:lnTo>
                    <a:pt x="495" y="405"/>
                  </a:lnTo>
                  <a:lnTo>
                    <a:pt x="505" y="391"/>
                  </a:lnTo>
                  <a:lnTo>
                    <a:pt x="516" y="377"/>
                  </a:lnTo>
                  <a:lnTo>
                    <a:pt x="531" y="364"/>
                  </a:lnTo>
                  <a:lnTo>
                    <a:pt x="544" y="351"/>
                  </a:lnTo>
                  <a:lnTo>
                    <a:pt x="559" y="340"/>
                  </a:lnTo>
                  <a:lnTo>
                    <a:pt x="575" y="328"/>
                  </a:lnTo>
                  <a:lnTo>
                    <a:pt x="591" y="319"/>
                  </a:lnTo>
                  <a:lnTo>
                    <a:pt x="608" y="310"/>
                  </a:lnTo>
                  <a:lnTo>
                    <a:pt x="626" y="302"/>
                  </a:lnTo>
                  <a:lnTo>
                    <a:pt x="645" y="294"/>
                  </a:lnTo>
                  <a:lnTo>
                    <a:pt x="661" y="290"/>
                  </a:lnTo>
                  <a:lnTo>
                    <a:pt x="678" y="286"/>
                  </a:lnTo>
                  <a:lnTo>
                    <a:pt x="696" y="283"/>
                  </a:lnTo>
                  <a:lnTo>
                    <a:pt x="715" y="280"/>
                  </a:lnTo>
                  <a:lnTo>
                    <a:pt x="754" y="275"/>
                  </a:lnTo>
                  <a:lnTo>
                    <a:pt x="796" y="272"/>
                  </a:lnTo>
                  <a:lnTo>
                    <a:pt x="838" y="270"/>
                  </a:lnTo>
                  <a:lnTo>
                    <a:pt x="878" y="269"/>
                  </a:lnTo>
                  <a:lnTo>
                    <a:pt x="915" y="268"/>
                  </a:lnTo>
                  <a:lnTo>
                    <a:pt x="948" y="268"/>
                  </a:lnTo>
                  <a:lnTo>
                    <a:pt x="1448" y="268"/>
                  </a:lnTo>
                  <a:lnTo>
                    <a:pt x="1448" y="0"/>
                  </a:lnTo>
                  <a:lnTo>
                    <a:pt x="800" y="0"/>
                  </a:lnTo>
                  <a:lnTo>
                    <a:pt x="747" y="1"/>
                  </a:lnTo>
                  <a:lnTo>
                    <a:pt x="693" y="2"/>
                  </a:lnTo>
                  <a:lnTo>
                    <a:pt x="667" y="4"/>
                  </a:lnTo>
                  <a:lnTo>
                    <a:pt x="640" y="6"/>
                  </a:lnTo>
                  <a:lnTo>
                    <a:pt x="613" y="9"/>
                  </a:lnTo>
                  <a:lnTo>
                    <a:pt x="587" y="12"/>
                  </a:lnTo>
                  <a:lnTo>
                    <a:pt x="560" y="17"/>
                  </a:lnTo>
                  <a:lnTo>
                    <a:pt x="534" y="21"/>
                  </a:lnTo>
                  <a:lnTo>
                    <a:pt x="508" y="27"/>
                  </a:lnTo>
                  <a:lnTo>
                    <a:pt x="483" y="35"/>
                  </a:lnTo>
                  <a:lnTo>
                    <a:pt x="458" y="42"/>
                  </a:lnTo>
                  <a:lnTo>
                    <a:pt x="434" y="51"/>
                  </a:lnTo>
                  <a:lnTo>
                    <a:pt x="410" y="61"/>
                  </a:lnTo>
                  <a:lnTo>
                    <a:pt x="387" y="72"/>
                  </a:lnTo>
                  <a:lnTo>
                    <a:pt x="361" y="86"/>
                  </a:lnTo>
                  <a:lnTo>
                    <a:pt x="337" y="100"/>
                  </a:lnTo>
                  <a:lnTo>
                    <a:pt x="313" y="115"/>
                  </a:lnTo>
                  <a:lnTo>
                    <a:pt x="291" y="131"/>
                  </a:lnTo>
                  <a:lnTo>
                    <a:pt x="269" y="148"/>
                  </a:lnTo>
                  <a:lnTo>
                    <a:pt x="249" y="164"/>
                  </a:lnTo>
                  <a:lnTo>
                    <a:pt x="229" y="182"/>
                  </a:lnTo>
                  <a:lnTo>
                    <a:pt x="210" y="200"/>
                  </a:lnTo>
                  <a:lnTo>
                    <a:pt x="192" y="218"/>
                  </a:lnTo>
                  <a:lnTo>
                    <a:pt x="176" y="238"/>
                  </a:lnTo>
                  <a:lnTo>
                    <a:pt x="159" y="257"/>
                  </a:lnTo>
                  <a:lnTo>
                    <a:pt x="144" y="277"/>
                  </a:lnTo>
                  <a:lnTo>
                    <a:pt x="129" y="298"/>
                  </a:lnTo>
                  <a:lnTo>
                    <a:pt x="115" y="318"/>
                  </a:lnTo>
                  <a:lnTo>
                    <a:pt x="102" y="340"/>
                  </a:lnTo>
                  <a:lnTo>
                    <a:pt x="91" y="361"/>
                  </a:lnTo>
                  <a:lnTo>
                    <a:pt x="80" y="383"/>
                  </a:lnTo>
                  <a:lnTo>
                    <a:pt x="68" y="405"/>
                  </a:lnTo>
                  <a:lnTo>
                    <a:pt x="59" y="428"/>
                  </a:lnTo>
                  <a:lnTo>
                    <a:pt x="50" y="451"/>
                  </a:lnTo>
                  <a:lnTo>
                    <a:pt x="42" y="473"/>
                  </a:lnTo>
                  <a:lnTo>
                    <a:pt x="35" y="497"/>
                  </a:lnTo>
                  <a:lnTo>
                    <a:pt x="28" y="520"/>
                  </a:lnTo>
                  <a:lnTo>
                    <a:pt x="22" y="544"/>
                  </a:lnTo>
                  <a:lnTo>
                    <a:pt x="17" y="568"/>
                  </a:lnTo>
                  <a:lnTo>
                    <a:pt x="12" y="592"/>
                  </a:lnTo>
                  <a:lnTo>
                    <a:pt x="9" y="616"/>
                  </a:lnTo>
                  <a:lnTo>
                    <a:pt x="6" y="641"/>
                  </a:lnTo>
                  <a:lnTo>
                    <a:pt x="3" y="665"/>
                  </a:lnTo>
                  <a:lnTo>
                    <a:pt x="2" y="689"/>
                  </a:lnTo>
                  <a:lnTo>
                    <a:pt x="1" y="713"/>
                  </a:lnTo>
                  <a:lnTo>
                    <a:pt x="0" y="738"/>
                  </a:lnTo>
                  <a:lnTo>
                    <a:pt x="1" y="763"/>
                  </a:lnTo>
                  <a:lnTo>
                    <a:pt x="2" y="789"/>
                  </a:lnTo>
                  <a:lnTo>
                    <a:pt x="3" y="814"/>
                  </a:lnTo>
                  <a:lnTo>
                    <a:pt x="6" y="841"/>
                  </a:lnTo>
                  <a:lnTo>
                    <a:pt x="9" y="867"/>
                  </a:lnTo>
                  <a:lnTo>
                    <a:pt x="13" y="894"/>
                  </a:lnTo>
                  <a:lnTo>
                    <a:pt x="17" y="921"/>
                  </a:lnTo>
                  <a:lnTo>
                    <a:pt x="23" y="947"/>
                  </a:lnTo>
                  <a:lnTo>
                    <a:pt x="30" y="975"/>
                  </a:lnTo>
                  <a:lnTo>
                    <a:pt x="37" y="1001"/>
                  </a:lnTo>
                  <a:lnTo>
                    <a:pt x="45" y="1028"/>
                  </a:lnTo>
                  <a:lnTo>
                    <a:pt x="53" y="1053"/>
                  </a:lnTo>
                  <a:lnTo>
                    <a:pt x="63" y="1080"/>
                  </a:lnTo>
                  <a:lnTo>
                    <a:pt x="73" y="1105"/>
                  </a:lnTo>
                  <a:lnTo>
                    <a:pt x="86" y="1131"/>
                  </a:lnTo>
                  <a:lnTo>
                    <a:pt x="98" y="1155"/>
                  </a:lnTo>
                  <a:lnTo>
                    <a:pt x="111" y="1180"/>
                  </a:lnTo>
                  <a:lnTo>
                    <a:pt x="126" y="1204"/>
                  </a:lnTo>
                  <a:lnTo>
                    <a:pt x="142" y="1227"/>
                  </a:lnTo>
                  <a:lnTo>
                    <a:pt x="158" y="1250"/>
                  </a:lnTo>
                  <a:lnTo>
                    <a:pt x="176" y="1272"/>
                  </a:lnTo>
                  <a:lnTo>
                    <a:pt x="195" y="1293"/>
                  </a:lnTo>
                  <a:lnTo>
                    <a:pt x="214" y="1314"/>
                  </a:lnTo>
                  <a:lnTo>
                    <a:pt x="236" y="1333"/>
                  </a:lnTo>
                  <a:lnTo>
                    <a:pt x="257" y="1351"/>
                  </a:lnTo>
                  <a:lnTo>
                    <a:pt x="281" y="1369"/>
                  </a:lnTo>
                  <a:lnTo>
                    <a:pt x="305" y="1385"/>
                  </a:lnTo>
                  <a:lnTo>
                    <a:pt x="331" y="1400"/>
                  </a:lnTo>
                  <a:lnTo>
                    <a:pt x="358" y="1415"/>
                  </a:lnTo>
                  <a:lnTo>
                    <a:pt x="386" y="1427"/>
                  </a:lnTo>
                  <a:lnTo>
                    <a:pt x="415" y="1439"/>
                  </a:lnTo>
                  <a:lnTo>
                    <a:pt x="446" y="1449"/>
                  </a:lnTo>
                  <a:lnTo>
                    <a:pt x="475" y="1456"/>
                  </a:lnTo>
                  <a:lnTo>
                    <a:pt x="504" y="1464"/>
                  </a:lnTo>
                  <a:lnTo>
                    <a:pt x="534" y="1471"/>
                  </a:lnTo>
                  <a:lnTo>
                    <a:pt x="565" y="1476"/>
                  </a:lnTo>
                  <a:lnTo>
                    <a:pt x="597" y="1481"/>
                  </a:lnTo>
                  <a:lnTo>
                    <a:pt x="629" y="1485"/>
                  </a:lnTo>
                  <a:lnTo>
                    <a:pt x="661" y="1488"/>
                  </a:lnTo>
                  <a:lnTo>
                    <a:pt x="694" y="1491"/>
                  </a:lnTo>
                  <a:lnTo>
                    <a:pt x="759" y="1496"/>
                  </a:lnTo>
                  <a:lnTo>
                    <a:pt x="825" y="1498"/>
                  </a:lnTo>
                  <a:lnTo>
                    <a:pt x="888" y="1500"/>
                  </a:lnTo>
                  <a:lnTo>
                    <a:pt x="948" y="1500"/>
                  </a:lnTo>
                  <a:lnTo>
                    <a:pt x="1448" y="15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52" name="Freeform 919"/>
            <p:cNvSpPr/>
            <p:nvPr/>
          </p:nvSpPr>
          <p:spPr>
            <a:xfrm>
              <a:off x="5761080" y="5494320"/>
              <a:ext cx="193680" cy="1983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461" h="1500">
                  <a:moveTo>
                    <a:pt x="1461" y="1500"/>
                  </a:moveTo>
                  <a:lnTo>
                    <a:pt x="1461" y="0"/>
                  </a:lnTo>
                  <a:lnTo>
                    <a:pt x="1080" y="0"/>
                  </a:lnTo>
                  <a:lnTo>
                    <a:pt x="1080" y="613"/>
                  </a:lnTo>
                  <a:lnTo>
                    <a:pt x="384" y="613"/>
                  </a:lnTo>
                  <a:lnTo>
                    <a:pt x="384" y="0"/>
                  </a:lnTo>
                  <a:lnTo>
                    <a:pt x="0" y="0"/>
                  </a:lnTo>
                  <a:lnTo>
                    <a:pt x="0" y="1500"/>
                  </a:lnTo>
                  <a:lnTo>
                    <a:pt x="384" y="1500"/>
                  </a:lnTo>
                  <a:lnTo>
                    <a:pt x="384" y="880"/>
                  </a:lnTo>
                  <a:lnTo>
                    <a:pt x="1080" y="880"/>
                  </a:lnTo>
                  <a:lnTo>
                    <a:pt x="1080" y="1500"/>
                  </a:lnTo>
                  <a:lnTo>
                    <a:pt x="1461" y="15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53" name="Freeform 920"/>
            <p:cNvSpPr/>
            <p:nvPr/>
          </p:nvSpPr>
          <p:spPr>
            <a:xfrm>
              <a:off x="5979960" y="5494320"/>
              <a:ext cx="255600" cy="19836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931" h="1500">
                  <a:moveTo>
                    <a:pt x="1220" y="886"/>
                  </a:moveTo>
                  <a:lnTo>
                    <a:pt x="707" y="886"/>
                  </a:lnTo>
                  <a:lnTo>
                    <a:pt x="964" y="359"/>
                  </a:lnTo>
                  <a:lnTo>
                    <a:pt x="1220" y="886"/>
                  </a:lnTo>
                  <a:close/>
                  <a:moveTo>
                    <a:pt x="1931" y="1500"/>
                  </a:moveTo>
                  <a:lnTo>
                    <a:pt x="1185" y="0"/>
                  </a:lnTo>
                  <a:lnTo>
                    <a:pt x="745" y="0"/>
                  </a:lnTo>
                  <a:lnTo>
                    <a:pt x="0" y="1500"/>
                  </a:lnTo>
                  <a:lnTo>
                    <a:pt x="448" y="1500"/>
                  </a:lnTo>
                  <a:lnTo>
                    <a:pt x="620" y="1151"/>
                  </a:lnTo>
                  <a:lnTo>
                    <a:pt x="1306" y="1151"/>
                  </a:lnTo>
                  <a:lnTo>
                    <a:pt x="1480" y="1500"/>
                  </a:lnTo>
                  <a:lnTo>
                    <a:pt x="1931" y="15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54" name="Freeform 921"/>
            <p:cNvSpPr/>
            <p:nvPr/>
          </p:nvSpPr>
          <p:spPr>
            <a:xfrm>
              <a:off x="6261120" y="5494320"/>
              <a:ext cx="208080" cy="1983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571" h="1500">
                  <a:moveTo>
                    <a:pt x="1571" y="1500"/>
                  </a:moveTo>
                  <a:lnTo>
                    <a:pt x="1571" y="0"/>
                  </a:lnTo>
                  <a:lnTo>
                    <a:pt x="1206" y="0"/>
                  </a:lnTo>
                  <a:lnTo>
                    <a:pt x="1206" y="1118"/>
                  </a:lnTo>
                  <a:lnTo>
                    <a:pt x="491" y="0"/>
                  </a:lnTo>
                  <a:lnTo>
                    <a:pt x="0" y="0"/>
                  </a:lnTo>
                  <a:lnTo>
                    <a:pt x="0" y="1500"/>
                  </a:lnTo>
                  <a:lnTo>
                    <a:pt x="367" y="1500"/>
                  </a:lnTo>
                  <a:lnTo>
                    <a:pt x="367" y="401"/>
                  </a:lnTo>
                  <a:lnTo>
                    <a:pt x="1098" y="1500"/>
                  </a:lnTo>
                  <a:lnTo>
                    <a:pt x="1571" y="15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55" name="Freeform 922"/>
            <p:cNvSpPr/>
            <p:nvPr/>
          </p:nvSpPr>
          <p:spPr>
            <a:xfrm>
              <a:off x="6518160" y="5494320"/>
              <a:ext cx="208080" cy="1983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572" h="1500">
                  <a:moveTo>
                    <a:pt x="1572" y="1500"/>
                  </a:moveTo>
                  <a:lnTo>
                    <a:pt x="1572" y="0"/>
                  </a:lnTo>
                  <a:lnTo>
                    <a:pt x="1208" y="0"/>
                  </a:lnTo>
                  <a:lnTo>
                    <a:pt x="1208" y="1118"/>
                  </a:lnTo>
                  <a:lnTo>
                    <a:pt x="492" y="0"/>
                  </a:lnTo>
                  <a:lnTo>
                    <a:pt x="0" y="0"/>
                  </a:lnTo>
                  <a:lnTo>
                    <a:pt x="0" y="1500"/>
                  </a:lnTo>
                  <a:lnTo>
                    <a:pt x="368" y="1500"/>
                  </a:lnTo>
                  <a:lnTo>
                    <a:pt x="368" y="401"/>
                  </a:lnTo>
                  <a:lnTo>
                    <a:pt x="1099" y="1500"/>
                  </a:lnTo>
                  <a:lnTo>
                    <a:pt x="1572" y="15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56" name="Freeform 923"/>
            <p:cNvSpPr/>
            <p:nvPr/>
          </p:nvSpPr>
          <p:spPr>
            <a:xfrm>
              <a:off x="6761160" y="5492880"/>
              <a:ext cx="235080" cy="19980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1777" h="1517">
                  <a:moveTo>
                    <a:pt x="1355" y="754"/>
                  </a:moveTo>
                  <a:lnTo>
                    <a:pt x="1355" y="779"/>
                  </a:lnTo>
                  <a:lnTo>
                    <a:pt x="1354" y="805"/>
                  </a:lnTo>
                  <a:lnTo>
                    <a:pt x="1353" y="829"/>
                  </a:lnTo>
                  <a:lnTo>
                    <a:pt x="1351" y="854"/>
                  </a:lnTo>
                  <a:lnTo>
                    <a:pt x="1349" y="878"/>
                  </a:lnTo>
                  <a:lnTo>
                    <a:pt x="1346" y="903"/>
                  </a:lnTo>
                  <a:lnTo>
                    <a:pt x="1342" y="926"/>
                  </a:lnTo>
                  <a:lnTo>
                    <a:pt x="1337" y="949"/>
                  </a:lnTo>
                  <a:lnTo>
                    <a:pt x="1332" y="972"/>
                  </a:lnTo>
                  <a:lnTo>
                    <a:pt x="1325" y="994"/>
                  </a:lnTo>
                  <a:lnTo>
                    <a:pt x="1318" y="1015"/>
                  </a:lnTo>
                  <a:lnTo>
                    <a:pt x="1310" y="1037"/>
                  </a:lnTo>
                  <a:lnTo>
                    <a:pt x="1301" y="1056"/>
                  </a:lnTo>
                  <a:lnTo>
                    <a:pt x="1292" y="1077"/>
                  </a:lnTo>
                  <a:lnTo>
                    <a:pt x="1281" y="1095"/>
                  </a:lnTo>
                  <a:lnTo>
                    <a:pt x="1268" y="1113"/>
                  </a:lnTo>
                  <a:lnTo>
                    <a:pt x="1255" y="1130"/>
                  </a:lnTo>
                  <a:lnTo>
                    <a:pt x="1241" y="1147"/>
                  </a:lnTo>
                  <a:lnTo>
                    <a:pt x="1225" y="1162"/>
                  </a:lnTo>
                  <a:lnTo>
                    <a:pt x="1208" y="1177"/>
                  </a:lnTo>
                  <a:lnTo>
                    <a:pt x="1190" y="1190"/>
                  </a:lnTo>
                  <a:lnTo>
                    <a:pt x="1170" y="1203"/>
                  </a:lnTo>
                  <a:lnTo>
                    <a:pt x="1150" y="1214"/>
                  </a:lnTo>
                  <a:lnTo>
                    <a:pt x="1127" y="1226"/>
                  </a:lnTo>
                  <a:lnTo>
                    <a:pt x="1104" y="1235"/>
                  </a:lnTo>
                  <a:lnTo>
                    <a:pt x="1078" y="1243"/>
                  </a:lnTo>
                  <a:lnTo>
                    <a:pt x="1052" y="1250"/>
                  </a:lnTo>
                  <a:lnTo>
                    <a:pt x="1023" y="1256"/>
                  </a:lnTo>
                  <a:lnTo>
                    <a:pt x="994" y="1260"/>
                  </a:lnTo>
                  <a:lnTo>
                    <a:pt x="962" y="1264"/>
                  </a:lnTo>
                  <a:lnTo>
                    <a:pt x="928" y="1266"/>
                  </a:lnTo>
                  <a:lnTo>
                    <a:pt x="894" y="1266"/>
                  </a:lnTo>
                  <a:lnTo>
                    <a:pt x="859" y="1266"/>
                  </a:lnTo>
                  <a:lnTo>
                    <a:pt x="825" y="1264"/>
                  </a:lnTo>
                  <a:lnTo>
                    <a:pt x="794" y="1261"/>
                  </a:lnTo>
                  <a:lnTo>
                    <a:pt x="763" y="1256"/>
                  </a:lnTo>
                  <a:lnTo>
                    <a:pt x="736" y="1250"/>
                  </a:lnTo>
                  <a:lnTo>
                    <a:pt x="708" y="1244"/>
                  </a:lnTo>
                  <a:lnTo>
                    <a:pt x="682" y="1236"/>
                  </a:lnTo>
                  <a:lnTo>
                    <a:pt x="659" y="1227"/>
                  </a:lnTo>
                  <a:lnTo>
                    <a:pt x="636" y="1215"/>
                  </a:lnTo>
                  <a:lnTo>
                    <a:pt x="615" y="1204"/>
                  </a:lnTo>
                  <a:lnTo>
                    <a:pt x="596" y="1192"/>
                  </a:lnTo>
                  <a:lnTo>
                    <a:pt x="577" y="1179"/>
                  </a:lnTo>
                  <a:lnTo>
                    <a:pt x="560" y="1164"/>
                  </a:lnTo>
                  <a:lnTo>
                    <a:pt x="544" y="1149"/>
                  </a:lnTo>
                  <a:lnTo>
                    <a:pt x="529" y="1133"/>
                  </a:lnTo>
                  <a:lnTo>
                    <a:pt x="516" y="1115"/>
                  </a:lnTo>
                  <a:lnTo>
                    <a:pt x="504" y="1098"/>
                  </a:lnTo>
                  <a:lnTo>
                    <a:pt x="493" y="1079"/>
                  </a:lnTo>
                  <a:lnTo>
                    <a:pt x="482" y="1059"/>
                  </a:lnTo>
                  <a:lnTo>
                    <a:pt x="473" y="1040"/>
                  </a:lnTo>
                  <a:lnTo>
                    <a:pt x="465" y="1018"/>
                  </a:lnTo>
                  <a:lnTo>
                    <a:pt x="457" y="997"/>
                  </a:lnTo>
                  <a:lnTo>
                    <a:pt x="451" y="975"/>
                  </a:lnTo>
                  <a:lnTo>
                    <a:pt x="446" y="953"/>
                  </a:lnTo>
                  <a:lnTo>
                    <a:pt x="441" y="930"/>
                  </a:lnTo>
                  <a:lnTo>
                    <a:pt x="436" y="906"/>
                  </a:lnTo>
                  <a:lnTo>
                    <a:pt x="433" y="882"/>
                  </a:lnTo>
                  <a:lnTo>
                    <a:pt x="430" y="857"/>
                  </a:lnTo>
                  <a:lnTo>
                    <a:pt x="428" y="833"/>
                  </a:lnTo>
                  <a:lnTo>
                    <a:pt x="427" y="807"/>
                  </a:lnTo>
                  <a:lnTo>
                    <a:pt x="426" y="782"/>
                  </a:lnTo>
                  <a:lnTo>
                    <a:pt x="426" y="755"/>
                  </a:lnTo>
                  <a:lnTo>
                    <a:pt x="426" y="729"/>
                  </a:lnTo>
                  <a:lnTo>
                    <a:pt x="427" y="704"/>
                  </a:lnTo>
                  <a:lnTo>
                    <a:pt x="428" y="678"/>
                  </a:lnTo>
                  <a:lnTo>
                    <a:pt x="430" y="654"/>
                  </a:lnTo>
                  <a:lnTo>
                    <a:pt x="433" y="629"/>
                  </a:lnTo>
                  <a:lnTo>
                    <a:pt x="436" y="605"/>
                  </a:lnTo>
                  <a:lnTo>
                    <a:pt x="441" y="581"/>
                  </a:lnTo>
                  <a:lnTo>
                    <a:pt x="446" y="559"/>
                  </a:lnTo>
                  <a:lnTo>
                    <a:pt x="451" y="537"/>
                  </a:lnTo>
                  <a:lnTo>
                    <a:pt x="457" y="515"/>
                  </a:lnTo>
                  <a:lnTo>
                    <a:pt x="464" y="494"/>
                  </a:lnTo>
                  <a:lnTo>
                    <a:pt x="473" y="473"/>
                  </a:lnTo>
                  <a:lnTo>
                    <a:pt x="482" y="454"/>
                  </a:lnTo>
                  <a:lnTo>
                    <a:pt x="493" y="434"/>
                  </a:lnTo>
                  <a:lnTo>
                    <a:pt x="504" y="416"/>
                  </a:lnTo>
                  <a:lnTo>
                    <a:pt x="516" y="399"/>
                  </a:lnTo>
                  <a:lnTo>
                    <a:pt x="529" y="382"/>
                  </a:lnTo>
                  <a:lnTo>
                    <a:pt x="544" y="366"/>
                  </a:lnTo>
                  <a:lnTo>
                    <a:pt x="560" y="352"/>
                  </a:lnTo>
                  <a:lnTo>
                    <a:pt x="576" y="337"/>
                  </a:lnTo>
                  <a:lnTo>
                    <a:pt x="595" y="324"/>
                  </a:lnTo>
                  <a:lnTo>
                    <a:pt x="615" y="312"/>
                  </a:lnTo>
                  <a:lnTo>
                    <a:pt x="635" y="302"/>
                  </a:lnTo>
                  <a:lnTo>
                    <a:pt x="658" y="292"/>
                  </a:lnTo>
                  <a:lnTo>
                    <a:pt x="682" y="282"/>
                  </a:lnTo>
                  <a:lnTo>
                    <a:pt x="707" y="274"/>
                  </a:lnTo>
                  <a:lnTo>
                    <a:pt x="734" y="268"/>
                  </a:lnTo>
                  <a:lnTo>
                    <a:pt x="763" y="262"/>
                  </a:lnTo>
                  <a:lnTo>
                    <a:pt x="793" y="258"/>
                  </a:lnTo>
                  <a:lnTo>
                    <a:pt x="824" y="255"/>
                  </a:lnTo>
                  <a:lnTo>
                    <a:pt x="857" y="253"/>
                  </a:lnTo>
                  <a:lnTo>
                    <a:pt x="893" y="252"/>
                  </a:lnTo>
                  <a:lnTo>
                    <a:pt x="927" y="253"/>
                  </a:lnTo>
                  <a:lnTo>
                    <a:pt x="960" y="255"/>
                  </a:lnTo>
                  <a:lnTo>
                    <a:pt x="991" y="258"/>
                  </a:lnTo>
                  <a:lnTo>
                    <a:pt x="1020" y="262"/>
                  </a:lnTo>
                  <a:lnTo>
                    <a:pt x="1049" y="268"/>
                  </a:lnTo>
                  <a:lnTo>
                    <a:pt x="1074" y="274"/>
                  </a:lnTo>
                  <a:lnTo>
                    <a:pt x="1100" y="282"/>
                  </a:lnTo>
                  <a:lnTo>
                    <a:pt x="1123" y="292"/>
                  </a:lnTo>
                  <a:lnTo>
                    <a:pt x="1146" y="302"/>
                  </a:lnTo>
                  <a:lnTo>
                    <a:pt x="1166" y="313"/>
                  </a:lnTo>
                  <a:lnTo>
                    <a:pt x="1186" y="325"/>
                  </a:lnTo>
                  <a:lnTo>
                    <a:pt x="1204" y="338"/>
                  </a:lnTo>
                  <a:lnTo>
                    <a:pt x="1221" y="352"/>
                  </a:lnTo>
                  <a:lnTo>
                    <a:pt x="1237" y="367"/>
                  </a:lnTo>
                  <a:lnTo>
                    <a:pt x="1252" y="383"/>
                  </a:lnTo>
                  <a:lnTo>
                    <a:pt x="1265" y="400"/>
                  </a:lnTo>
                  <a:lnTo>
                    <a:pt x="1278" y="417"/>
                  </a:lnTo>
                  <a:lnTo>
                    <a:pt x="1289" y="435"/>
                  </a:lnTo>
                  <a:lnTo>
                    <a:pt x="1299" y="455"/>
                  </a:lnTo>
                  <a:lnTo>
                    <a:pt x="1308" y="474"/>
                  </a:lnTo>
                  <a:lnTo>
                    <a:pt x="1316" y="495"/>
                  </a:lnTo>
                  <a:lnTo>
                    <a:pt x="1323" y="515"/>
                  </a:lnTo>
                  <a:lnTo>
                    <a:pt x="1331" y="538"/>
                  </a:lnTo>
                  <a:lnTo>
                    <a:pt x="1336" y="559"/>
                  </a:lnTo>
                  <a:lnTo>
                    <a:pt x="1341" y="582"/>
                  </a:lnTo>
                  <a:lnTo>
                    <a:pt x="1345" y="605"/>
                  </a:lnTo>
                  <a:lnTo>
                    <a:pt x="1348" y="629"/>
                  </a:lnTo>
                  <a:lnTo>
                    <a:pt x="1351" y="653"/>
                  </a:lnTo>
                  <a:lnTo>
                    <a:pt x="1353" y="678"/>
                  </a:lnTo>
                  <a:lnTo>
                    <a:pt x="1354" y="703"/>
                  </a:lnTo>
                  <a:lnTo>
                    <a:pt x="1355" y="728"/>
                  </a:lnTo>
                  <a:lnTo>
                    <a:pt x="1355" y="754"/>
                  </a:lnTo>
                  <a:close/>
                  <a:moveTo>
                    <a:pt x="1777" y="777"/>
                  </a:moveTo>
                  <a:lnTo>
                    <a:pt x="1776" y="731"/>
                  </a:lnTo>
                  <a:lnTo>
                    <a:pt x="1774" y="687"/>
                  </a:lnTo>
                  <a:lnTo>
                    <a:pt x="1770" y="643"/>
                  </a:lnTo>
                  <a:lnTo>
                    <a:pt x="1764" y="600"/>
                  </a:lnTo>
                  <a:lnTo>
                    <a:pt x="1757" y="559"/>
                  </a:lnTo>
                  <a:lnTo>
                    <a:pt x="1748" y="519"/>
                  </a:lnTo>
                  <a:lnTo>
                    <a:pt x="1738" y="480"/>
                  </a:lnTo>
                  <a:lnTo>
                    <a:pt x="1726" y="444"/>
                  </a:lnTo>
                  <a:lnTo>
                    <a:pt x="1712" y="408"/>
                  </a:lnTo>
                  <a:lnTo>
                    <a:pt x="1696" y="374"/>
                  </a:lnTo>
                  <a:lnTo>
                    <a:pt x="1679" y="342"/>
                  </a:lnTo>
                  <a:lnTo>
                    <a:pt x="1660" y="310"/>
                  </a:lnTo>
                  <a:lnTo>
                    <a:pt x="1639" y="280"/>
                  </a:lnTo>
                  <a:lnTo>
                    <a:pt x="1616" y="253"/>
                  </a:lnTo>
                  <a:lnTo>
                    <a:pt x="1593" y="225"/>
                  </a:lnTo>
                  <a:lnTo>
                    <a:pt x="1566" y="200"/>
                  </a:lnTo>
                  <a:lnTo>
                    <a:pt x="1539" y="176"/>
                  </a:lnTo>
                  <a:lnTo>
                    <a:pt x="1508" y="154"/>
                  </a:lnTo>
                  <a:lnTo>
                    <a:pt x="1477" y="132"/>
                  </a:lnTo>
                  <a:lnTo>
                    <a:pt x="1444" y="113"/>
                  </a:lnTo>
                  <a:lnTo>
                    <a:pt x="1408" y="96"/>
                  </a:lnTo>
                  <a:lnTo>
                    <a:pt x="1370" y="78"/>
                  </a:lnTo>
                  <a:lnTo>
                    <a:pt x="1332" y="64"/>
                  </a:lnTo>
                  <a:lnTo>
                    <a:pt x="1291" y="51"/>
                  </a:lnTo>
                  <a:lnTo>
                    <a:pt x="1247" y="38"/>
                  </a:lnTo>
                  <a:lnTo>
                    <a:pt x="1202" y="28"/>
                  </a:lnTo>
                  <a:lnTo>
                    <a:pt x="1155" y="20"/>
                  </a:lnTo>
                  <a:lnTo>
                    <a:pt x="1106" y="13"/>
                  </a:lnTo>
                  <a:lnTo>
                    <a:pt x="1055" y="7"/>
                  </a:lnTo>
                  <a:lnTo>
                    <a:pt x="1002" y="3"/>
                  </a:lnTo>
                  <a:lnTo>
                    <a:pt x="947" y="1"/>
                  </a:lnTo>
                  <a:lnTo>
                    <a:pt x="890" y="0"/>
                  </a:lnTo>
                  <a:lnTo>
                    <a:pt x="832" y="1"/>
                  </a:lnTo>
                  <a:lnTo>
                    <a:pt x="778" y="3"/>
                  </a:lnTo>
                  <a:lnTo>
                    <a:pt x="725" y="7"/>
                  </a:lnTo>
                  <a:lnTo>
                    <a:pt x="674" y="12"/>
                  </a:lnTo>
                  <a:lnTo>
                    <a:pt x="625" y="19"/>
                  </a:lnTo>
                  <a:lnTo>
                    <a:pt x="578" y="27"/>
                  </a:lnTo>
                  <a:lnTo>
                    <a:pt x="533" y="37"/>
                  </a:lnTo>
                  <a:lnTo>
                    <a:pt x="491" y="49"/>
                  </a:lnTo>
                  <a:lnTo>
                    <a:pt x="450" y="62"/>
                  </a:lnTo>
                  <a:lnTo>
                    <a:pt x="410" y="76"/>
                  </a:lnTo>
                  <a:lnTo>
                    <a:pt x="373" y="92"/>
                  </a:lnTo>
                  <a:lnTo>
                    <a:pt x="337" y="110"/>
                  </a:lnTo>
                  <a:lnTo>
                    <a:pt x="304" y="128"/>
                  </a:lnTo>
                  <a:lnTo>
                    <a:pt x="272" y="149"/>
                  </a:lnTo>
                  <a:lnTo>
                    <a:pt x="242" y="171"/>
                  </a:lnTo>
                  <a:lnTo>
                    <a:pt x="214" y="195"/>
                  </a:lnTo>
                  <a:lnTo>
                    <a:pt x="187" y="219"/>
                  </a:lnTo>
                  <a:lnTo>
                    <a:pt x="163" y="246"/>
                  </a:lnTo>
                  <a:lnTo>
                    <a:pt x="140" y="273"/>
                  </a:lnTo>
                  <a:lnTo>
                    <a:pt x="119" y="303"/>
                  </a:lnTo>
                  <a:lnTo>
                    <a:pt x="100" y="333"/>
                  </a:lnTo>
                  <a:lnTo>
                    <a:pt x="82" y="366"/>
                  </a:lnTo>
                  <a:lnTo>
                    <a:pt x="66" y="400"/>
                  </a:lnTo>
                  <a:lnTo>
                    <a:pt x="53" y="434"/>
                  </a:lnTo>
                  <a:lnTo>
                    <a:pt x="40" y="471"/>
                  </a:lnTo>
                  <a:lnTo>
                    <a:pt x="29" y="509"/>
                  </a:lnTo>
                  <a:lnTo>
                    <a:pt x="20" y="549"/>
                  </a:lnTo>
                  <a:lnTo>
                    <a:pt x="13" y="590"/>
                  </a:lnTo>
                  <a:lnTo>
                    <a:pt x="7" y="631"/>
                  </a:lnTo>
                  <a:lnTo>
                    <a:pt x="3" y="675"/>
                  </a:lnTo>
                  <a:lnTo>
                    <a:pt x="1" y="720"/>
                  </a:lnTo>
                  <a:lnTo>
                    <a:pt x="0" y="766"/>
                  </a:lnTo>
                  <a:lnTo>
                    <a:pt x="1" y="808"/>
                  </a:lnTo>
                  <a:lnTo>
                    <a:pt x="4" y="850"/>
                  </a:lnTo>
                  <a:lnTo>
                    <a:pt x="8" y="892"/>
                  </a:lnTo>
                  <a:lnTo>
                    <a:pt x="14" y="934"/>
                  </a:lnTo>
                  <a:lnTo>
                    <a:pt x="18" y="955"/>
                  </a:lnTo>
                  <a:lnTo>
                    <a:pt x="22" y="975"/>
                  </a:lnTo>
                  <a:lnTo>
                    <a:pt x="27" y="997"/>
                  </a:lnTo>
                  <a:lnTo>
                    <a:pt x="33" y="1017"/>
                  </a:lnTo>
                  <a:lnTo>
                    <a:pt x="39" y="1039"/>
                  </a:lnTo>
                  <a:lnTo>
                    <a:pt x="45" y="1059"/>
                  </a:lnTo>
                  <a:lnTo>
                    <a:pt x="54" y="1079"/>
                  </a:lnTo>
                  <a:lnTo>
                    <a:pt x="62" y="1099"/>
                  </a:lnTo>
                  <a:lnTo>
                    <a:pt x="70" y="1119"/>
                  </a:lnTo>
                  <a:lnTo>
                    <a:pt x="79" y="1139"/>
                  </a:lnTo>
                  <a:lnTo>
                    <a:pt x="89" y="1158"/>
                  </a:lnTo>
                  <a:lnTo>
                    <a:pt x="101" y="1177"/>
                  </a:lnTo>
                  <a:lnTo>
                    <a:pt x="112" y="1196"/>
                  </a:lnTo>
                  <a:lnTo>
                    <a:pt x="124" y="1214"/>
                  </a:lnTo>
                  <a:lnTo>
                    <a:pt x="137" y="1232"/>
                  </a:lnTo>
                  <a:lnTo>
                    <a:pt x="151" y="1249"/>
                  </a:lnTo>
                  <a:lnTo>
                    <a:pt x="165" y="1266"/>
                  </a:lnTo>
                  <a:lnTo>
                    <a:pt x="180" y="1283"/>
                  </a:lnTo>
                  <a:lnTo>
                    <a:pt x="197" y="1299"/>
                  </a:lnTo>
                  <a:lnTo>
                    <a:pt x="214" y="1314"/>
                  </a:lnTo>
                  <a:lnTo>
                    <a:pt x="231" y="1330"/>
                  </a:lnTo>
                  <a:lnTo>
                    <a:pt x="251" y="1344"/>
                  </a:lnTo>
                  <a:lnTo>
                    <a:pt x="270" y="1358"/>
                  </a:lnTo>
                  <a:lnTo>
                    <a:pt x="290" y="1371"/>
                  </a:lnTo>
                  <a:lnTo>
                    <a:pt x="306" y="1382"/>
                  </a:lnTo>
                  <a:lnTo>
                    <a:pt x="323" y="1391"/>
                  </a:lnTo>
                  <a:lnTo>
                    <a:pt x="339" y="1400"/>
                  </a:lnTo>
                  <a:lnTo>
                    <a:pt x="357" y="1408"/>
                  </a:lnTo>
                  <a:lnTo>
                    <a:pt x="393" y="1425"/>
                  </a:lnTo>
                  <a:lnTo>
                    <a:pt x="430" y="1439"/>
                  </a:lnTo>
                  <a:lnTo>
                    <a:pt x="468" y="1452"/>
                  </a:lnTo>
                  <a:lnTo>
                    <a:pt x="508" y="1464"/>
                  </a:lnTo>
                  <a:lnTo>
                    <a:pt x="549" y="1475"/>
                  </a:lnTo>
                  <a:lnTo>
                    <a:pt x="590" y="1485"/>
                  </a:lnTo>
                  <a:lnTo>
                    <a:pt x="630" y="1493"/>
                  </a:lnTo>
                  <a:lnTo>
                    <a:pt x="672" y="1499"/>
                  </a:lnTo>
                  <a:lnTo>
                    <a:pt x="714" y="1505"/>
                  </a:lnTo>
                  <a:lnTo>
                    <a:pt x="756" y="1510"/>
                  </a:lnTo>
                  <a:lnTo>
                    <a:pt x="797" y="1513"/>
                  </a:lnTo>
                  <a:lnTo>
                    <a:pt x="838" y="1515"/>
                  </a:lnTo>
                  <a:lnTo>
                    <a:pt x="877" y="1517"/>
                  </a:lnTo>
                  <a:lnTo>
                    <a:pt x="916" y="1517"/>
                  </a:lnTo>
                  <a:lnTo>
                    <a:pt x="970" y="1517"/>
                  </a:lnTo>
                  <a:lnTo>
                    <a:pt x="1021" y="1514"/>
                  </a:lnTo>
                  <a:lnTo>
                    <a:pt x="1071" y="1510"/>
                  </a:lnTo>
                  <a:lnTo>
                    <a:pt x="1119" y="1505"/>
                  </a:lnTo>
                  <a:lnTo>
                    <a:pt x="1166" y="1498"/>
                  </a:lnTo>
                  <a:lnTo>
                    <a:pt x="1211" y="1490"/>
                  </a:lnTo>
                  <a:lnTo>
                    <a:pt x="1254" y="1481"/>
                  </a:lnTo>
                  <a:lnTo>
                    <a:pt x="1295" y="1468"/>
                  </a:lnTo>
                  <a:lnTo>
                    <a:pt x="1335" y="1456"/>
                  </a:lnTo>
                  <a:lnTo>
                    <a:pt x="1372" y="1442"/>
                  </a:lnTo>
                  <a:lnTo>
                    <a:pt x="1409" y="1426"/>
                  </a:lnTo>
                  <a:lnTo>
                    <a:pt x="1443" y="1409"/>
                  </a:lnTo>
                  <a:lnTo>
                    <a:pt x="1476" y="1390"/>
                  </a:lnTo>
                  <a:lnTo>
                    <a:pt x="1507" y="1370"/>
                  </a:lnTo>
                  <a:lnTo>
                    <a:pt x="1536" y="1349"/>
                  </a:lnTo>
                  <a:lnTo>
                    <a:pt x="1563" y="1326"/>
                  </a:lnTo>
                  <a:lnTo>
                    <a:pt x="1590" y="1301"/>
                  </a:lnTo>
                  <a:lnTo>
                    <a:pt x="1614" y="1276"/>
                  </a:lnTo>
                  <a:lnTo>
                    <a:pt x="1637" y="1249"/>
                  </a:lnTo>
                  <a:lnTo>
                    <a:pt x="1657" y="1220"/>
                  </a:lnTo>
                  <a:lnTo>
                    <a:pt x="1677" y="1191"/>
                  </a:lnTo>
                  <a:lnTo>
                    <a:pt x="1694" y="1160"/>
                  </a:lnTo>
                  <a:lnTo>
                    <a:pt x="1709" y="1128"/>
                  </a:lnTo>
                  <a:lnTo>
                    <a:pt x="1724" y="1094"/>
                  </a:lnTo>
                  <a:lnTo>
                    <a:pt x="1736" y="1058"/>
                  </a:lnTo>
                  <a:lnTo>
                    <a:pt x="1747" y="1022"/>
                  </a:lnTo>
                  <a:lnTo>
                    <a:pt x="1756" y="985"/>
                  </a:lnTo>
                  <a:lnTo>
                    <a:pt x="1763" y="946"/>
                  </a:lnTo>
                  <a:lnTo>
                    <a:pt x="1770" y="906"/>
                  </a:lnTo>
                  <a:lnTo>
                    <a:pt x="1774" y="864"/>
                  </a:lnTo>
                  <a:lnTo>
                    <a:pt x="1776" y="821"/>
                  </a:lnTo>
                  <a:lnTo>
                    <a:pt x="1777" y="7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57" name="Freeform 924"/>
            <p:cNvSpPr/>
            <p:nvPr/>
          </p:nvSpPr>
          <p:spPr>
            <a:xfrm>
              <a:off x="6997680" y="5494320"/>
              <a:ext cx="255600" cy="19836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930" h="1500">
                  <a:moveTo>
                    <a:pt x="1930" y="0"/>
                  </a:moveTo>
                  <a:lnTo>
                    <a:pt x="1498" y="0"/>
                  </a:lnTo>
                  <a:lnTo>
                    <a:pt x="959" y="1129"/>
                  </a:lnTo>
                  <a:lnTo>
                    <a:pt x="431" y="0"/>
                  </a:lnTo>
                  <a:lnTo>
                    <a:pt x="0" y="0"/>
                  </a:lnTo>
                  <a:lnTo>
                    <a:pt x="759" y="1500"/>
                  </a:lnTo>
                  <a:lnTo>
                    <a:pt x="1142" y="1500"/>
                  </a:lnTo>
                  <a:lnTo>
                    <a:pt x="19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58" name="Freeform 925"/>
            <p:cNvSpPr/>
            <p:nvPr/>
          </p:nvSpPr>
          <p:spPr>
            <a:xfrm>
              <a:off x="7251840" y="5494320"/>
              <a:ext cx="190440" cy="198360"/>
            </a:xfrm>
            <a:custGeom>
              <a:avLst/>
              <a:gdLst>
                <a:gd name="textAreaLeft" fmla="*/ 0 w 190440"/>
                <a:gd name="textAreaRight" fmla="*/ 190800 w 1904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447" h="1500">
                  <a:moveTo>
                    <a:pt x="1447" y="1500"/>
                  </a:moveTo>
                  <a:lnTo>
                    <a:pt x="1447" y="1232"/>
                  </a:lnTo>
                  <a:lnTo>
                    <a:pt x="963" y="1232"/>
                  </a:lnTo>
                  <a:lnTo>
                    <a:pt x="905" y="1232"/>
                  </a:lnTo>
                  <a:lnTo>
                    <a:pt x="850" y="1229"/>
                  </a:lnTo>
                  <a:lnTo>
                    <a:pt x="824" y="1227"/>
                  </a:lnTo>
                  <a:lnTo>
                    <a:pt x="798" y="1225"/>
                  </a:lnTo>
                  <a:lnTo>
                    <a:pt x="774" y="1222"/>
                  </a:lnTo>
                  <a:lnTo>
                    <a:pt x="750" y="1219"/>
                  </a:lnTo>
                  <a:lnTo>
                    <a:pt x="727" y="1214"/>
                  </a:lnTo>
                  <a:lnTo>
                    <a:pt x="705" y="1209"/>
                  </a:lnTo>
                  <a:lnTo>
                    <a:pt x="684" y="1204"/>
                  </a:lnTo>
                  <a:lnTo>
                    <a:pt x="663" y="1198"/>
                  </a:lnTo>
                  <a:lnTo>
                    <a:pt x="644" y="1192"/>
                  </a:lnTo>
                  <a:lnTo>
                    <a:pt x="625" y="1185"/>
                  </a:lnTo>
                  <a:lnTo>
                    <a:pt x="607" y="1176"/>
                  </a:lnTo>
                  <a:lnTo>
                    <a:pt x="590" y="1168"/>
                  </a:lnTo>
                  <a:lnTo>
                    <a:pt x="574" y="1157"/>
                  </a:lnTo>
                  <a:lnTo>
                    <a:pt x="558" y="1146"/>
                  </a:lnTo>
                  <a:lnTo>
                    <a:pt x="544" y="1135"/>
                  </a:lnTo>
                  <a:lnTo>
                    <a:pt x="531" y="1123"/>
                  </a:lnTo>
                  <a:lnTo>
                    <a:pt x="517" y="1108"/>
                  </a:lnTo>
                  <a:lnTo>
                    <a:pt x="506" y="1094"/>
                  </a:lnTo>
                  <a:lnTo>
                    <a:pt x="495" y="1079"/>
                  </a:lnTo>
                  <a:lnTo>
                    <a:pt x="485" y="1061"/>
                  </a:lnTo>
                  <a:lnTo>
                    <a:pt x="476" y="1044"/>
                  </a:lnTo>
                  <a:lnTo>
                    <a:pt x="466" y="1025"/>
                  </a:lnTo>
                  <a:lnTo>
                    <a:pt x="459" y="1005"/>
                  </a:lnTo>
                  <a:lnTo>
                    <a:pt x="452" y="984"/>
                  </a:lnTo>
                  <a:lnTo>
                    <a:pt x="447" y="961"/>
                  </a:lnTo>
                  <a:lnTo>
                    <a:pt x="442" y="938"/>
                  </a:lnTo>
                  <a:lnTo>
                    <a:pt x="438" y="912"/>
                  </a:lnTo>
                  <a:lnTo>
                    <a:pt x="434" y="886"/>
                  </a:lnTo>
                  <a:lnTo>
                    <a:pt x="1447" y="886"/>
                  </a:lnTo>
                  <a:lnTo>
                    <a:pt x="1447" y="620"/>
                  </a:lnTo>
                  <a:lnTo>
                    <a:pt x="434" y="620"/>
                  </a:lnTo>
                  <a:lnTo>
                    <a:pt x="438" y="589"/>
                  </a:lnTo>
                  <a:lnTo>
                    <a:pt x="442" y="556"/>
                  </a:lnTo>
                  <a:lnTo>
                    <a:pt x="448" y="524"/>
                  </a:lnTo>
                  <a:lnTo>
                    <a:pt x="455" y="493"/>
                  </a:lnTo>
                  <a:lnTo>
                    <a:pt x="459" y="478"/>
                  </a:lnTo>
                  <a:lnTo>
                    <a:pt x="464" y="462"/>
                  </a:lnTo>
                  <a:lnTo>
                    <a:pt x="470" y="448"/>
                  </a:lnTo>
                  <a:lnTo>
                    <a:pt x="478" y="433"/>
                  </a:lnTo>
                  <a:lnTo>
                    <a:pt x="485" y="418"/>
                  </a:lnTo>
                  <a:lnTo>
                    <a:pt x="494" y="405"/>
                  </a:lnTo>
                  <a:lnTo>
                    <a:pt x="504" y="391"/>
                  </a:lnTo>
                  <a:lnTo>
                    <a:pt x="516" y="378"/>
                  </a:lnTo>
                  <a:lnTo>
                    <a:pt x="530" y="364"/>
                  </a:lnTo>
                  <a:lnTo>
                    <a:pt x="544" y="351"/>
                  </a:lnTo>
                  <a:lnTo>
                    <a:pt x="558" y="340"/>
                  </a:lnTo>
                  <a:lnTo>
                    <a:pt x="574" y="328"/>
                  </a:lnTo>
                  <a:lnTo>
                    <a:pt x="590" y="318"/>
                  </a:lnTo>
                  <a:lnTo>
                    <a:pt x="607" y="309"/>
                  </a:lnTo>
                  <a:lnTo>
                    <a:pt x="626" y="302"/>
                  </a:lnTo>
                  <a:lnTo>
                    <a:pt x="645" y="295"/>
                  </a:lnTo>
                  <a:lnTo>
                    <a:pt x="660" y="290"/>
                  </a:lnTo>
                  <a:lnTo>
                    <a:pt x="677" y="286"/>
                  </a:lnTo>
                  <a:lnTo>
                    <a:pt x="695" y="283"/>
                  </a:lnTo>
                  <a:lnTo>
                    <a:pt x="714" y="279"/>
                  </a:lnTo>
                  <a:lnTo>
                    <a:pt x="754" y="274"/>
                  </a:lnTo>
                  <a:lnTo>
                    <a:pt x="795" y="271"/>
                  </a:lnTo>
                  <a:lnTo>
                    <a:pt x="837" y="269"/>
                  </a:lnTo>
                  <a:lnTo>
                    <a:pt x="877" y="268"/>
                  </a:lnTo>
                  <a:lnTo>
                    <a:pt x="914" y="267"/>
                  </a:lnTo>
                  <a:lnTo>
                    <a:pt x="947" y="267"/>
                  </a:lnTo>
                  <a:lnTo>
                    <a:pt x="1447" y="267"/>
                  </a:lnTo>
                  <a:lnTo>
                    <a:pt x="1447" y="0"/>
                  </a:lnTo>
                  <a:lnTo>
                    <a:pt x="799" y="0"/>
                  </a:lnTo>
                  <a:lnTo>
                    <a:pt x="746" y="1"/>
                  </a:lnTo>
                  <a:lnTo>
                    <a:pt x="693" y="2"/>
                  </a:lnTo>
                  <a:lnTo>
                    <a:pt x="666" y="4"/>
                  </a:lnTo>
                  <a:lnTo>
                    <a:pt x="639" y="6"/>
                  </a:lnTo>
                  <a:lnTo>
                    <a:pt x="612" y="9"/>
                  </a:lnTo>
                  <a:lnTo>
                    <a:pt x="586" y="12"/>
                  </a:lnTo>
                  <a:lnTo>
                    <a:pt x="559" y="16"/>
                  </a:lnTo>
                  <a:lnTo>
                    <a:pt x="534" y="21"/>
                  </a:lnTo>
                  <a:lnTo>
                    <a:pt x="508" y="26"/>
                  </a:lnTo>
                  <a:lnTo>
                    <a:pt x="483" y="33"/>
                  </a:lnTo>
                  <a:lnTo>
                    <a:pt x="457" y="41"/>
                  </a:lnTo>
                  <a:lnTo>
                    <a:pt x="433" y="50"/>
                  </a:lnTo>
                  <a:lnTo>
                    <a:pt x="409" y="60"/>
                  </a:lnTo>
                  <a:lnTo>
                    <a:pt x="386" y="71"/>
                  </a:lnTo>
                  <a:lnTo>
                    <a:pt x="360" y="85"/>
                  </a:lnTo>
                  <a:lnTo>
                    <a:pt x="336" y="99"/>
                  </a:lnTo>
                  <a:lnTo>
                    <a:pt x="313" y="114"/>
                  </a:lnTo>
                  <a:lnTo>
                    <a:pt x="290" y="130"/>
                  </a:lnTo>
                  <a:lnTo>
                    <a:pt x="268" y="147"/>
                  </a:lnTo>
                  <a:lnTo>
                    <a:pt x="248" y="164"/>
                  </a:lnTo>
                  <a:lnTo>
                    <a:pt x="228" y="181"/>
                  </a:lnTo>
                  <a:lnTo>
                    <a:pt x="209" y="199"/>
                  </a:lnTo>
                  <a:lnTo>
                    <a:pt x="192" y="218"/>
                  </a:lnTo>
                  <a:lnTo>
                    <a:pt x="174" y="237"/>
                  </a:lnTo>
                  <a:lnTo>
                    <a:pt x="158" y="256"/>
                  </a:lnTo>
                  <a:lnTo>
                    <a:pt x="143" y="276"/>
                  </a:lnTo>
                  <a:lnTo>
                    <a:pt x="128" y="297"/>
                  </a:lnTo>
                  <a:lnTo>
                    <a:pt x="114" y="317"/>
                  </a:lnTo>
                  <a:lnTo>
                    <a:pt x="102" y="339"/>
                  </a:lnTo>
                  <a:lnTo>
                    <a:pt x="90" y="360"/>
                  </a:lnTo>
                  <a:lnTo>
                    <a:pt x="78" y="383"/>
                  </a:lnTo>
                  <a:lnTo>
                    <a:pt x="68" y="404"/>
                  </a:lnTo>
                  <a:lnTo>
                    <a:pt x="58" y="426"/>
                  </a:lnTo>
                  <a:lnTo>
                    <a:pt x="50" y="450"/>
                  </a:lnTo>
                  <a:lnTo>
                    <a:pt x="42" y="472"/>
                  </a:lnTo>
                  <a:lnTo>
                    <a:pt x="34" y="496"/>
                  </a:lnTo>
                  <a:lnTo>
                    <a:pt x="27" y="519"/>
                  </a:lnTo>
                  <a:lnTo>
                    <a:pt x="21" y="543"/>
                  </a:lnTo>
                  <a:lnTo>
                    <a:pt x="16" y="567"/>
                  </a:lnTo>
                  <a:lnTo>
                    <a:pt x="12" y="591"/>
                  </a:lnTo>
                  <a:lnTo>
                    <a:pt x="8" y="615"/>
                  </a:lnTo>
                  <a:lnTo>
                    <a:pt x="5" y="639"/>
                  </a:lnTo>
                  <a:lnTo>
                    <a:pt x="3" y="663"/>
                  </a:lnTo>
                  <a:lnTo>
                    <a:pt x="1" y="688"/>
                  </a:lnTo>
                  <a:lnTo>
                    <a:pt x="0" y="712"/>
                  </a:lnTo>
                  <a:lnTo>
                    <a:pt x="0" y="737"/>
                  </a:lnTo>
                  <a:lnTo>
                    <a:pt x="0" y="762"/>
                  </a:lnTo>
                  <a:lnTo>
                    <a:pt x="1" y="788"/>
                  </a:lnTo>
                  <a:lnTo>
                    <a:pt x="3" y="814"/>
                  </a:lnTo>
                  <a:lnTo>
                    <a:pt x="5" y="840"/>
                  </a:lnTo>
                  <a:lnTo>
                    <a:pt x="8" y="866"/>
                  </a:lnTo>
                  <a:lnTo>
                    <a:pt x="12" y="894"/>
                  </a:lnTo>
                  <a:lnTo>
                    <a:pt x="17" y="921"/>
                  </a:lnTo>
                  <a:lnTo>
                    <a:pt x="22" y="947"/>
                  </a:lnTo>
                  <a:lnTo>
                    <a:pt x="28" y="974"/>
                  </a:lnTo>
                  <a:lnTo>
                    <a:pt x="36" y="1000"/>
                  </a:lnTo>
                  <a:lnTo>
                    <a:pt x="44" y="1027"/>
                  </a:lnTo>
                  <a:lnTo>
                    <a:pt x="53" y="1053"/>
                  </a:lnTo>
                  <a:lnTo>
                    <a:pt x="62" y="1080"/>
                  </a:lnTo>
                  <a:lnTo>
                    <a:pt x="73" y="1105"/>
                  </a:lnTo>
                  <a:lnTo>
                    <a:pt x="85" y="1131"/>
                  </a:lnTo>
                  <a:lnTo>
                    <a:pt x="97" y="1155"/>
                  </a:lnTo>
                  <a:lnTo>
                    <a:pt x="111" y="1180"/>
                  </a:lnTo>
                  <a:lnTo>
                    <a:pt x="125" y="1204"/>
                  </a:lnTo>
                  <a:lnTo>
                    <a:pt x="141" y="1227"/>
                  </a:lnTo>
                  <a:lnTo>
                    <a:pt x="157" y="1249"/>
                  </a:lnTo>
                  <a:lnTo>
                    <a:pt x="175" y="1272"/>
                  </a:lnTo>
                  <a:lnTo>
                    <a:pt x="194" y="1293"/>
                  </a:lnTo>
                  <a:lnTo>
                    <a:pt x="213" y="1312"/>
                  </a:lnTo>
                  <a:lnTo>
                    <a:pt x="235" y="1332"/>
                  </a:lnTo>
                  <a:lnTo>
                    <a:pt x="257" y="1350"/>
                  </a:lnTo>
                  <a:lnTo>
                    <a:pt x="280" y="1368"/>
                  </a:lnTo>
                  <a:lnTo>
                    <a:pt x="304" y="1384"/>
                  </a:lnTo>
                  <a:lnTo>
                    <a:pt x="331" y="1399"/>
                  </a:lnTo>
                  <a:lnTo>
                    <a:pt x="357" y="1414"/>
                  </a:lnTo>
                  <a:lnTo>
                    <a:pt x="386" y="1426"/>
                  </a:lnTo>
                  <a:lnTo>
                    <a:pt x="414" y="1438"/>
                  </a:lnTo>
                  <a:lnTo>
                    <a:pt x="445" y="1447"/>
                  </a:lnTo>
                  <a:lnTo>
                    <a:pt x="473" y="1455"/>
                  </a:lnTo>
                  <a:lnTo>
                    <a:pt x="503" y="1463"/>
                  </a:lnTo>
                  <a:lnTo>
                    <a:pt x="533" y="1470"/>
                  </a:lnTo>
                  <a:lnTo>
                    <a:pt x="564" y="1475"/>
                  </a:lnTo>
                  <a:lnTo>
                    <a:pt x="596" y="1480"/>
                  </a:lnTo>
                  <a:lnTo>
                    <a:pt x="628" y="1484"/>
                  </a:lnTo>
                  <a:lnTo>
                    <a:pt x="660" y="1488"/>
                  </a:lnTo>
                  <a:lnTo>
                    <a:pt x="693" y="1491"/>
                  </a:lnTo>
                  <a:lnTo>
                    <a:pt x="759" y="1496"/>
                  </a:lnTo>
                  <a:lnTo>
                    <a:pt x="824" y="1498"/>
                  </a:lnTo>
                  <a:lnTo>
                    <a:pt x="887" y="1500"/>
                  </a:lnTo>
                  <a:lnTo>
                    <a:pt x="947" y="1500"/>
                  </a:lnTo>
                  <a:lnTo>
                    <a:pt x="1447" y="15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59" name="Freeform 926"/>
            <p:cNvSpPr/>
            <p:nvPr/>
          </p:nvSpPr>
          <p:spPr>
            <a:xfrm>
              <a:off x="7486560" y="5494320"/>
              <a:ext cx="217440" cy="19836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647" h="1500">
                  <a:moveTo>
                    <a:pt x="1198" y="457"/>
                  </a:moveTo>
                  <a:lnTo>
                    <a:pt x="1198" y="471"/>
                  </a:lnTo>
                  <a:lnTo>
                    <a:pt x="1197" y="486"/>
                  </a:lnTo>
                  <a:lnTo>
                    <a:pt x="1195" y="499"/>
                  </a:lnTo>
                  <a:lnTo>
                    <a:pt x="1193" y="511"/>
                  </a:lnTo>
                  <a:lnTo>
                    <a:pt x="1191" y="523"/>
                  </a:lnTo>
                  <a:lnTo>
                    <a:pt x="1188" y="535"/>
                  </a:lnTo>
                  <a:lnTo>
                    <a:pt x="1184" y="546"/>
                  </a:lnTo>
                  <a:lnTo>
                    <a:pt x="1180" y="556"/>
                  </a:lnTo>
                  <a:lnTo>
                    <a:pt x="1175" y="566"/>
                  </a:lnTo>
                  <a:lnTo>
                    <a:pt x="1169" y="576"/>
                  </a:lnTo>
                  <a:lnTo>
                    <a:pt x="1163" y="584"/>
                  </a:lnTo>
                  <a:lnTo>
                    <a:pt x="1156" y="592"/>
                  </a:lnTo>
                  <a:lnTo>
                    <a:pt x="1149" y="600"/>
                  </a:lnTo>
                  <a:lnTo>
                    <a:pt x="1142" y="607"/>
                  </a:lnTo>
                  <a:lnTo>
                    <a:pt x="1134" y="613"/>
                  </a:lnTo>
                  <a:lnTo>
                    <a:pt x="1125" y="619"/>
                  </a:lnTo>
                  <a:lnTo>
                    <a:pt x="1116" y="626"/>
                  </a:lnTo>
                  <a:lnTo>
                    <a:pt x="1106" y="631"/>
                  </a:lnTo>
                  <a:lnTo>
                    <a:pt x="1096" y="636"/>
                  </a:lnTo>
                  <a:lnTo>
                    <a:pt x="1085" y="640"/>
                  </a:lnTo>
                  <a:lnTo>
                    <a:pt x="1074" y="644"/>
                  </a:lnTo>
                  <a:lnTo>
                    <a:pt x="1063" y="647"/>
                  </a:lnTo>
                  <a:lnTo>
                    <a:pt x="1050" y="650"/>
                  </a:lnTo>
                  <a:lnTo>
                    <a:pt x="1037" y="653"/>
                  </a:lnTo>
                  <a:lnTo>
                    <a:pt x="1011" y="657"/>
                  </a:lnTo>
                  <a:lnTo>
                    <a:pt x="982" y="660"/>
                  </a:lnTo>
                  <a:lnTo>
                    <a:pt x="952" y="662"/>
                  </a:lnTo>
                  <a:lnTo>
                    <a:pt x="920" y="662"/>
                  </a:lnTo>
                  <a:lnTo>
                    <a:pt x="383" y="662"/>
                  </a:lnTo>
                  <a:lnTo>
                    <a:pt x="383" y="267"/>
                  </a:lnTo>
                  <a:lnTo>
                    <a:pt x="920" y="267"/>
                  </a:lnTo>
                  <a:lnTo>
                    <a:pt x="949" y="267"/>
                  </a:lnTo>
                  <a:lnTo>
                    <a:pt x="978" y="269"/>
                  </a:lnTo>
                  <a:lnTo>
                    <a:pt x="1004" y="271"/>
                  </a:lnTo>
                  <a:lnTo>
                    <a:pt x="1031" y="274"/>
                  </a:lnTo>
                  <a:lnTo>
                    <a:pt x="1055" y="279"/>
                  </a:lnTo>
                  <a:lnTo>
                    <a:pt x="1078" y="286"/>
                  </a:lnTo>
                  <a:lnTo>
                    <a:pt x="1089" y="290"/>
                  </a:lnTo>
                  <a:lnTo>
                    <a:pt x="1099" y="294"/>
                  </a:lnTo>
                  <a:lnTo>
                    <a:pt x="1110" y="299"/>
                  </a:lnTo>
                  <a:lnTo>
                    <a:pt x="1119" y="304"/>
                  </a:lnTo>
                  <a:lnTo>
                    <a:pt x="1128" y="309"/>
                  </a:lnTo>
                  <a:lnTo>
                    <a:pt x="1136" y="315"/>
                  </a:lnTo>
                  <a:lnTo>
                    <a:pt x="1144" y="321"/>
                  </a:lnTo>
                  <a:lnTo>
                    <a:pt x="1152" y="328"/>
                  </a:lnTo>
                  <a:lnTo>
                    <a:pt x="1160" y="336"/>
                  </a:lnTo>
                  <a:lnTo>
                    <a:pt x="1166" y="344"/>
                  </a:lnTo>
                  <a:lnTo>
                    <a:pt x="1172" y="352"/>
                  </a:lnTo>
                  <a:lnTo>
                    <a:pt x="1177" y="361"/>
                  </a:lnTo>
                  <a:lnTo>
                    <a:pt x="1182" y="371"/>
                  </a:lnTo>
                  <a:lnTo>
                    <a:pt x="1186" y="382"/>
                  </a:lnTo>
                  <a:lnTo>
                    <a:pt x="1190" y="393"/>
                  </a:lnTo>
                  <a:lnTo>
                    <a:pt x="1193" y="404"/>
                  </a:lnTo>
                  <a:lnTo>
                    <a:pt x="1195" y="416"/>
                  </a:lnTo>
                  <a:lnTo>
                    <a:pt x="1197" y="430"/>
                  </a:lnTo>
                  <a:lnTo>
                    <a:pt x="1198" y="443"/>
                  </a:lnTo>
                  <a:lnTo>
                    <a:pt x="1198" y="457"/>
                  </a:lnTo>
                  <a:close/>
                  <a:moveTo>
                    <a:pt x="1647" y="1500"/>
                  </a:moveTo>
                  <a:lnTo>
                    <a:pt x="1636" y="1470"/>
                  </a:lnTo>
                  <a:lnTo>
                    <a:pt x="1626" y="1440"/>
                  </a:lnTo>
                  <a:lnTo>
                    <a:pt x="1622" y="1425"/>
                  </a:lnTo>
                  <a:lnTo>
                    <a:pt x="1619" y="1410"/>
                  </a:lnTo>
                  <a:lnTo>
                    <a:pt x="1616" y="1394"/>
                  </a:lnTo>
                  <a:lnTo>
                    <a:pt x="1613" y="1379"/>
                  </a:lnTo>
                  <a:lnTo>
                    <a:pt x="1609" y="1340"/>
                  </a:lnTo>
                  <a:lnTo>
                    <a:pt x="1606" y="1300"/>
                  </a:lnTo>
                  <a:lnTo>
                    <a:pt x="1603" y="1261"/>
                  </a:lnTo>
                  <a:lnTo>
                    <a:pt x="1598" y="1222"/>
                  </a:lnTo>
                  <a:lnTo>
                    <a:pt x="1595" y="1202"/>
                  </a:lnTo>
                  <a:lnTo>
                    <a:pt x="1592" y="1183"/>
                  </a:lnTo>
                  <a:lnTo>
                    <a:pt x="1588" y="1163"/>
                  </a:lnTo>
                  <a:lnTo>
                    <a:pt x="1584" y="1144"/>
                  </a:lnTo>
                  <a:lnTo>
                    <a:pt x="1579" y="1125"/>
                  </a:lnTo>
                  <a:lnTo>
                    <a:pt x="1573" y="1105"/>
                  </a:lnTo>
                  <a:lnTo>
                    <a:pt x="1566" y="1087"/>
                  </a:lnTo>
                  <a:lnTo>
                    <a:pt x="1557" y="1068"/>
                  </a:lnTo>
                  <a:lnTo>
                    <a:pt x="1544" y="1045"/>
                  </a:lnTo>
                  <a:lnTo>
                    <a:pt x="1533" y="1024"/>
                  </a:lnTo>
                  <a:lnTo>
                    <a:pt x="1521" y="1004"/>
                  </a:lnTo>
                  <a:lnTo>
                    <a:pt x="1508" y="986"/>
                  </a:lnTo>
                  <a:lnTo>
                    <a:pt x="1495" y="971"/>
                  </a:lnTo>
                  <a:lnTo>
                    <a:pt x="1481" y="955"/>
                  </a:lnTo>
                  <a:lnTo>
                    <a:pt x="1467" y="942"/>
                  </a:lnTo>
                  <a:lnTo>
                    <a:pt x="1451" y="930"/>
                  </a:lnTo>
                  <a:lnTo>
                    <a:pt x="1435" y="918"/>
                  </a:lnTo>
                  <a:lnTo>
                    <a:pt x="1417" y="908"/>
                  </a:lnTo>
                  <a:lnTo>
                    <a:pt x="1398" y="898"/>
                  </a:lnTo>
                  <a:lnTo>
                    <a:pt x="1378" y="889"/>
                  </a:lnTo>
                  <a:lnTo>
                    <a:pt x="1356" y="880"/>
                  </a:lnTo>
                  <a:lnTo>
                    <a:pt x="1331" y="872"/>
                  </a:lnTo>
                  <a:lnTo>
                    <a:pt x="1306" y="863"/>
                  </a:lnTo>
                  <a:lnTo>
                    <a:pt x="1277" y="854"/>
                  </a:lnTo>
                  <a:lnTo>
                    <a:pt x="1299" y="848"/>
                  </a:lnTo>
                  <a:lnTo>
                    <a:pt x="1321" y="841"/>
                  </a:lnTo>
                  <a:lnTo>
                    <a:pt x="1342" y="834"/>
                  </a:lnTo>
                  <a:lnTo>
                    <a:pt x="1362" y="826"/>
                  </a:lnTo>
                  <a:lnTo>
                    <a:pt x="1381" y="816"/>
                  </a:lnTo>
                  <a:lnTo>
                    <a:pt x="1399" y="808"/>
                  </a:lnTo>
                  <a:lnTo>
                    <a:pt x="1417" y="798"/>
                  </a:lnTo>
                  <a:lnTo>
                    <a:pt x="1434" y="788"/>
                  </a:lnTo>
                  <a:lnTo>
                    <a:pt x="1449" y="778"/>
                  </a:lnTo>
                  <a:lnTo>
                    <a:pt x="1465" y="766"/>
                  </a:lnTo>
                  <a:lnTo>
                    <a:pt x="1479" y="754"/>
                  </a:lnTo>
                  <a:lnTo>
                    <a:pt x="1493" y="742"/>
                  </a:lnTo>
                  <a:lnTo>
                    <a:pt x="1506" y="730"/>
                  </a:lnTo>
                  <a:lnTo>
                    <a:pt x="1518" y="716"/>
                  </a:lnTo>
                  <a:lnTo>
                    <a:pt x="1529" y="703"/>
                  </a:lnTo>
                  <a:lnTo>
                    <a:pt x="1540" y="690"/>
                  </a:lnTo>
                  <a:lnTo>
                    <a:pt x="1549" y="675"/>
                  </a:lnTo>
                  <a:lnTo>
                    <a:pt x="1560" y="660"/>
                  </a:lnTo>
                  <a:lnTo>
                    <a:pt x="1568" y="645"/>
                  </a:lnTo>
                  <a:lnTo>
                    <a:pt x="1576" y="630"/>
                  </a:lnTo>
                  <a:lnTo>
                    <a:pt x="1583" y="614"/>
                  </a:lnTo>
                  <a:lnTo>
                    <a:pt x="1589" y="598"/>
                  </a:lnTo>
                  <a:lnTo>
                    <a:pt x="1595" y="581"/>
                  </a:lnTo>
                  <a:lnTo>
                    <a:pt x="1601" y="564"/>
                  </a:lnTo>
                  <a:lnTo>
                    <a:pt x="1605" y="547"/>
                  </a:lnTo>
                  <a:lnTo>
                    <a:pt x="1609" y="530"/>
                  </a:lnTo>
                  <a:lnTo>
                    <a:pt x="1612" y="511"/>
                  </a:lnTo>
                  <a:lnTo>
                    <a:pt x="1615" y="494"/>
                  </a:lnTo>
                  <a:lnTo>
                    <a:pt x="1617" y="475"/>
                  </a:lnTo>
                  <a:lnTo>
                    <a:pt x="1618" y="456"/>
                  </a:lnTo>
                  <a:lnTo>
                    <a:pt x="1619" y="438"/>
                  </a:lnTo>
                  <a:lnTo>
                    <a:pt x="1620" y="418"/>
                  </a:lnTo>
                  <a:lnTo>
                    <a:pt x="1619" y="402"/>
                  </a:lnTo>
                  <a:lnTo>
                    <a:pt x="1618" y="385"/>
                  </a:lnTo>
                  <a:lnTo>
                    <a:pt x="1616" y="368"/>
                  </a:lnTo>
                  <a:lnTo>
                    <a:pt x="1614" y="352"/>
                  </a:lnTo>
                  <a:lnTo>
                    <a:pt x="1611" y="336"/>
                  </a:lnTo>
                  <a:lnTo>
                    <a:pt x="1607" y="320"/>
                  </a:lnTo>
                  <a:lnTo>
                    <a:pt x="1602" y="304"/>
                  </a:lnTo>
                  <a:lnTo>
                    <a:pt x="1596" y="289"/>
                  </a:lnTo>
                  <a:lnTo>
                    <a:pt x="1590" y="273"/>
                  </a:lnTo>
                  <a:lnTo>
                    <a:pt x="1583" y="259"/>
                  </a:lnTo>
                  <a:lnTo>
                    <a:pt x="1576" y="245"/>
                  </a:lnTo>
                  <a:lnTo>
                    <a:pt x="1568" y="230"/>
                  </a:lnTo>
                  <a:lnTo>
                    <a:pt x="1560" y="216"/>
                  </a:lnTo>
                  <a:lnTo>
                    <a:pt x="1550" y="203"/>
                  </a:lnTo>
                  <a:lnTo>
                    <a:pt x="1540" y="190"/>
                  </a:lnTo>
                  <a:lnTo>
                    <a:pt x="1530" y="176"/>
                  </a:lnTo>
                  <a:lnTo>
                    <a:pt x="1519" y="164"/>
                  </a:lnTo>
                  <a:lnTo>
                    <a:pt x="1507" y="152"/>
                  </a:lnTo>
                  <a:lnTo>
                    <a:pt x="1494" y="140"/>
                  </a:lnTo>
                  <a:lnTo>
                    <a:pt x="1481" y="128"/>
                  </a:lnTo>
                  <a:lnTo>
                    <a:pt x="1468" y="118"/>
                  </a:lnTo>
                  <a:lnTo>
                    <a:pt x="1454" y="108"/>
                  </a:lnTo>
                  <a:lnTo>
                    <a:pt x="1439" y="98"/>
                  </a:lnTo>
                  <a:lnTo>
                    <a:pt x="1424" y="89"/>
                  </a:lnTo>
                  <a:lnTo>
                    <a:pt x="1408" y="79"/>
                  </a:lnTo>
                  <a:lnTo>
                    <a:pt x="1391" y="71"/>
                  </a:lnTo>
                  <a:lnTo>
                    <a:pt x="1374" y="63"/>
                  </a:lnTo>
                  <a:lnTo>
                    <a:pt x="1357" y="56"/>
                  </a:lnTo>
                  <a:lnTo>
                    <a:pt x="1339" y="49"/>
                  </a:lnTo>
                  <a:lnTo>
                    <a:pt x="1321" y="43"/>
                  </a:lnTo>
                  <a:lnTo>
                    <a:pt x="1301" y="38"/>
                  </a:lnTo>
                  <a:lnTo>
                    <a:pt x="1282" y="32"/>
                  </a:lnTo>
                  <a:lnTo>
                    <a:pt x="1258" y="27"/>
                  </a:lnTo>
                  <a:lnTo>
                    <a:pt x="1233" y="22"/>
                  </a:lnTo>
                  <a:lnTo>
                    <a:pt x="1209" y="18"/>
                  </a:lnTo>
                  <a:lnTo>
                    <a:pt x="1184" y="15"/>
                  </a:lnTo>
                  <a:lnTo>
                    <a:pt x="1134" y="9"/>
                  </a:lnTo>
                  <a:lnTo>
                    <a:pt x="1083" y="5"/>
                  </a:lnTo>
                  <a:lnTo>
                    <a:pt x="1032" y="3"/>
                  </a:lnTo>
                  <a:lnTo>
                    <a:pt x="981" y="1"/>
                  </a:lnTo>
                  <a:lnTo>
                    <a:pt x="930" y="0"/>
                  </a:lnTo>
                  <a:lnTo>
                    <a:pt x="880" y="0"/>
                  </a:lnTo>
                  <a:lnTo>
                    <a:pt x="0" y="0"/>
                  </a:lnTo>
                  <a:lnTo>
                    <a:pt x="0" y="1500"/>
                  </a:lnTo>
                  <a:lnTo>
                    <a:pt x="383" y="1500"/>
                  </a:lnTo>
                  <a:lnTo>
                    <a:pt x="383" y="932"/>
                  </a:lnTo>
                  <a:lnTo>
                    <a:pt x="690" y="932"/>
                  </a:lnTo>
                  <a:lnTo>
                    <a:pt x="721" y="932"/>
                  </a:lnTo>
                  <a:lnTo>
                    <a:pt x="750" y="932"/>
                  </a:lnTo>
                  <a:lnTo>
                    <a:pt x="778" y="934"/>
                  </a:lnTo>
                  <a:lnTo>
                    <a:pt x="805" y="935"/>
                  </a:lnTo>
                  <a:lnTo>
                    <a:pt x="831" y="937"/>
                  </a:lnTo>
                  <a:lnTo>
                    <a:pt x="855" y="940"/>
                  </a:lnTo>
                  <a:lnTo>
                    <a:pt x="879" y="943"/>
                  </a:lnTo>
                  <a:lnTo>
                    <a:pt x="901" y="947"/>
                  </a:lnTo>
                  <a:lnTo>
                    <a:pt x="923" y="952"/>
                  </a:lnTo>
                  <a:lnTo>
                    <a:pt x="943" y="957"/>
                  </a:lnTo>
                  <a:lnTo>
                    <a:pt x="963" y="963"/>
                  </a:lnTo>
                  <a:lnTo>
                    <a:pt x="981" y="970"/>
                  </a:lnTo>
                  <a:lnTo>
                    <a:pt x="998" y="978"/>
                  </a:lnTo>
                  <a:lnTo>
                    <a:pt x="1016" y="986"/>
                  </a:lnTo>
                  <a:lnTo>
                    <a:pt x="1031" y="994"/>
                  </a:lnTo>
                  <a:lnTo>
                    <a:pt x="1045" y="1004"/>
                  </a:lnTo>
                  <a:lnTo>
                    <a:pt x="1060" y="1014"/>
                  </a:lnTo>
                  <a:lnTo>
                    <a:pt x="1072" y="1026"/>
                  </a:lnTo>
                  <a:lnTo>
                    <a:pt x="1084" y="1038"/>
                  </a:lnTo>
                  <a:lnTo>
                    <a:pt x="1095" y="1051"/>
                  </a:lnTo>
                  <a:lnTo>
                    <a:pt x="1105" y="1065"/>
                  </a:lnTo>
                  <a:lnTo>
                    <a:pt x="1116" y="1081"/>
                  </a:lnTo>
                  <a:lnTo>
                    <a:pt x="1125" y="1096"/>
                  </a:lnTo>
                  <a:lnTo>
                    <a:pt x="1133" y="1113"/>
                  </a:lnTo>
                  <a:lnTo>
                    <a:pt x="1141" y="1131"/>
                  </a:lnTo>
                  <a:lnTo>
                    <a:pt x="1147" y="1150"/>
                  </a:lnTo>
                  <a:lnTo>
                    <a:pt x="1154" y="1171"/>
                  </a:lnTo>
                  <a:lnTo>
                    <a:pt x="1160" y="1191"/>
                  </a:lnTo>
                  <a:lnTo>
                    <a:pt x="1165" y="1213"/>
                  </a:lnTo>
                  <a:lnTo>
                    <a:pt x="1170" y="1237"/>
                  </a:lnTo>
                  <a:lnTo>
                    <a:pt x="1174" y="1261"/>
                  </a:lnTo>
                  <a:lnTo>
                    <a:pt x="1177" y="1287"/>
                  </a:lnTo>
                  <a:lnTo>
                    <a:pt x="1181" y="1314"/>
                  </a:lnTo>
                  <a:lnTo>
                    <a:pt x="1184" y="1340"/>
                  </a:lnTo>
                  <a:lnTo>
                    <a:pt x="1187" y="1367"/>
                  </a:lnTo>
                  <a:lnTo>
                    <a:pt x="1191" y="1394"/>
                  </a:lnTo>
                  <a:lnTo>
                    <a:pt x="1195" y="1421"/>
                  </a:lnTo>
                  <a:lnTo>
                    <a:pt x="1201" y="1447"/>
                  </a:lnTo>
                  <a:lnTo>
                    <a:pt x="1209" y="1474"/>
                  </a:lnTo>
                  <a:lnTo>
                    <a:pt x="1218" y="1500"/>
                  </a:lnTo>
                  <a:lnTo>
                    <a:pt x="1647" y="15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  <p:pic>
        <p:nvPicPr>
          <p:cNvPr id="60" name="Bild 1" descr="hm_Logo_col.tif"/>
          <p:cNvPicPr/>
          <p:nvPr/>
        </p:nvPicPr>
        <p:blipFill>
          <a:blip r:embed="rId3"/>
          <a:stretch/>
        </p:blipFill>
        <p:spPr>
          <a:xfrm>
            <a:off x="1189080" y="83664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09:43:41Z</dcterms:created>
  <dc:creator>14_ mi</dc:creator>
  <dc:description/>
  <dc:language>en-US</dc:language>
  <cp:lastModifiedBy>fl</cp:lastModifiedBy>
  <cp:lastPrinted>2006-11-01T10:35:22Z</cp:lastPrinted>
  <dcterms:modified xsi:type="dcterms:W3CDTF">2012-05-08T11:37:12Z</dcterms:modified>
  <cp:revision>28</cp:revision>
  <dc:subject/>
  <dc:title>PowerPoint-Präsentation</dc:title>
</cp:coreProperties>
</file>